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1.wmf" ContentType="image/x-wmf"/>
  <Override PartName="/ppt/media/image23.wmf" ContentType="image/x-wmf"/>
  <Override PartName="/ppt/media/image60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FBC-7E9F-4D83-97F5-FE711392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860-F2E5-4F0E-8DBC-85B6F818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399-8901-4703-8B64-D9B0C550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519F-2DC3-46F8-8983-F5561DB2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913-56D0-43F6-80BA-7214DA38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989-58DE-475B-85B4-92EC9BC8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5DA-8100-4BAE-80D2-A5BB439E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00F-7F0C-4684-847B-1B8421E9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449-2CA8-48C5-B4A7-2413B115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974-5582-46BF-B557-DC9281A4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1BC-2629-438F-B214-966F57C3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046-A75D-413C-A125-00508C1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829A-AA7F-4E7A-B61B-AFCB74796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143000" y="3200400"/>
            <a:ext cx="419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 &amp; Separable Differential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5200" y="8432640"/>
            <a:ext cx="37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.L.King Jr. Birthplace, Atlanta, 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807160" y="84121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eg Ke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nford Hig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land, Washing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52800" y="8818560"/>
            <a:ext cx="174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 by Vickie Kelly, 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69560" y="1540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289080" y="966960"/>
          <a:ext cx="2835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966960"/>
                    <a:ext cx="2835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7"/>
          <p:cNvGraphicFramePr/>
          <p:nvPr/>
        </p:nvGraphicFramePr>
        <p:xfrm>
          <a:off x="3029040" y="2133720"/>
          <a:ext cx="2000160" cy="60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9040" y="2133720"/>
                    <a:ext cx="200016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8"/>
          <p:cNvGraphicFramePr/>
          <p:nvPr/>
        </p:nvGraphicFramePr>
        <p:xfrm>
          <a:off x="2914560" y="2946240"/>
          <a:ext cx="2114640" cy="6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4560" y="2946240"/>
                    <a:ext cx="211464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14"/>
          <p:cNvGraphicFramePr/>
          <p:nvPr/>
        </p:nvGraphicFramePr>
        <p:xfrm>
          <a:off x="457200" y="2540160"/>
          <a:ext cx="1371600" cy="129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2540160"/>
                    <a:ext cx="1371600" cy="12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15"/>
          <p:cNvSpPr/>
          <p:nvPr/>
        </p:nvSpPr>
        <p:spPr>
          <a:xfrm>
            <a:off x="2763360" y="4438800"/>
            <a:ext cx="424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limits don’t mat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2629080" y="4267080"/>
            <a:ext cx="42289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9"/>
          <p:cNvSpPr/>
          <p:nvPr/>
        </p:nvSpPr>
        <p:spPr>
          <a:xfrm flipV="1">
            <a:off x="399960" y="2539800"/>
            <a:ext cx="1028880" cy="142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399960" y="2540160"/>
            <a:ext cx="1028880" cy="142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21"/>
          <p:cNvGraphicFramePr/>
          <p:nvPr/>
        </p:nvGraphicFramePr>
        <p:xfrm>
          <a:off x="0" y="6807240"/>
          <a:ext cx="1940040" cy="181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807240"/>
                    <a:ext cx="1940040" cy="18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22"/>
          <p:cNvGraphicFramePr/>
          <p:nvPr/>
        </p:nvGraphicFramePr>
        <p:xfrm>
          <a:off x="2685960" y="4368960"/>
          <a:ext cx="3257640" cy="1595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85960" y="4368960"/>
                    <a:ext cx="3257640" cy="15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23"/>
          <p:cNvGraphicFramePr/>
          <p:nvPr/>
        </p:nvGraphicFramePr>
        <p:xfrm>
          <a:off x="2209680" y="6908760"/>
          <a:ext cx="2122560" cy="1335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6908760"/>
                    <a:ext cx="21225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24"/>
          <p:cNvGraphicFramePr/>
          <p:nvPr/>
        </p:nvGraphicFramePr>
        <p:xfrm>
          <a:off x="228600" y="4267080"/>
          <a:ext cx="1031760" cy="947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" y="4267080"/>
                    <a:ext cx="103176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25"/>
          <p:cNvGraphicFramePr/>
          <p:nvPr/>
        </p:nvGraphicFramePr>
        <p:xfrm>
          <a:off x="457200" y="5486400"/>
          <a:ext cx="1143000" cy="1338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9" name="Object 2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200" y="5486400"/>
                    <a:ext cx="11430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26"/>
          <p:cNvGraphicFramePr/>
          <p:nvPr/>
        </p:nvGraphicFramePr>
        <p:xfrm>
          <a:off x="4419720" y="6807240"/>
          <a:ext cx="720720" cy="1334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1" name="Object 2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19720" y="6807240"/>
                    <a:ext cx="7207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 Box 27"/>
          <p:cNvSpPr/>
          <p:nvPr/>
        </p:nvSpPr>
        <p:spPr>
          <a:xfrm>
            <a:off x="2924640" y="66204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Using the original limit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30"/>
          <p:cNvGrpSpPr/>
          <p:nvPr/>
        </p:nvGrpSpPr>
        <p:grpSpPr>
          <a:xfrm>
            <a:off x="1257480" y="4064040"/>
            <a:ext cx="1383840" cy="1465560"/>
            <a:chOff x="1257480" y="4064040"/>
            <a:chExt cx="1383840" cy="1465560"/>
          </a:xfrm>
        </p:grpSpPr>
        <p:sp>
          <p:nvSpPr>
            <p:cNvPr id="254" name="AutoShape 28"/>
            <p:cNvSpPr/>
            <p:nvPr/>
          </p:nvSpPr>
          <p:spPr>
            <a:xfrm>
              <a:off x="1257480" y="4267080"/>
              <a:ext cx="114120" cy="101628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26280 h 1016280"/>
                <a:gd name="textAreaBottom" fmla="*/ 990000 h 10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29"/>
            <p:cNvSpPr/>
            <p:nvPr/>
          </p:nvSpPr>
          <p:spPr>
            <a:xfrm>
              <a:off x="1428840" y="4064040"/>
              <a:ext cx="1212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Leave the limits out until you substitute bac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3"/>
          <p:cNvGrpSpPr/>
          <p:nvPr/>
        </p:nvGrpSpPr>
        <p:grpSpPr>
          <a:xfrm>
            <a:off x="5181480" y="5791320"/>
            <a:ext cx="1327320" cy="3123720"/>
            <a:chOff x="5181480" y="5791320"/>
            <a:chExt cx="1327320" cy="3123720"/>
          </a:xfrm>
        </p:grpSpPr>
        <p:sp>
          <p:nvSpPr>
            <p:cNvPr id="257" name="Rectangle 32"/>
            <p:cNvSpPr/>
            <p:nvPr/>
          </p:nvSpPr>
          <p:spPr>
            <a:xfrm>
              <a:off x="5181480" y="5791320"/>
              <a:ext cx="1315440" cy="3123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31"/>
            <p:cNvSpPr/>
            <p:nvPr/>
          </p:nvSpPr>
          <p:spPr>
            <a:xfrm>
              <a:off x="5181480" y="5791320"/>
              <a:ext cx="13273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s is usually more work than finding new li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9" name="Object 35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0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61" name="Straight Arrow Connector 25"/>
          <p:cNvCxnSpPr/>
          <p:nvPr/>
        </p:nvCxnSpPr>
        <p:spPr>
          <a:xfrm flipV="1">
            <a:off x="1752120" y="5866920"/>
            <a:ext cx="1296360" cy="991440"/>
          </a:xfrm>
          <a:prstGeom prst="straightConnector1">
            <a:avLst/>
          </a:prstGeom>
          <a:ln w="38160">
            <a:solidFill>
              <a:srgbClr val="009973"/>
            </a:solidFill>
            <a:miter/>
            <a:tailEnd len="med" type="arrow" w="med"/>
          </a:ln>
        </p:spPr>
      </p:cxnSp>
      <p:sp>
        <p:nvSpPr>
          <p:cNvPr id="262" name="Ink 26"/>
          <p:cNvSpPr/>
          <p:nvPr/>
        </p:nvSpPr>
        <p:spPr>
          <a:xfrm>
            <a:off x="547560" y="2463840"/>
            <a:ext cx="608040" cy="1393920"/>
          </a:xfrm>
          <a:custGeom>
            <a:avLst/>
            <a:gdLst/>
            <a:ahLst/>
            <a:rect l="l" t="t" r="r" b="b"/>
            <a:pathLst>
              <a:path w="1688" h="3871">
                <a:moveTo>
                  <a:pt x="2282" y="7111"/>
                </a:moveTo>
                <a:cubicBezTo>
                  <a:pt x="2216" y="7136"/>
                  <a:pt x="2201" y="7186"/>
                  <a:pt x="2150" y="7210"/>
                </a:cubicBezTo>
                <a:cubicBezTo>
                  <a:pt x="2085" y="7240"/>
                  <a:pt x="2070" y="7244"/>
                  <a:pt x="2017" y="7309"/>
                </a:cubicBezTo>
                <a:cubicBezTo>
                  <a:pt x="1987" y="7347"/>
                  <a:pt x="1867" y="7444"/>
                  <a:pt x="1852" y="7474"/>
                </a:cubicBezTo>
                <a:cubicBezTo>
                  <a:pt x="1807" y="7565"/>
                  <a:pt x="1779" y="7600"/>
                  <a:pt x="1720" y="7673"/>
                </a:cubicBezTo>
                <a:cubicBezTo>
                  <a:pt x="1681" y="7721"/>
                  <a:pt x="1633" y="7816"/>
                  <a:pt x="1621" y="7871"/>
                </a:cubicBezTo>
                <a:cubicBezTo>
                  <a:pt x="1604" y="7947"/>
                  <a:pt x="1609" y="7976"/>
                  <a:pt x="1588" y="8070"/>
                </a:cubicBezTo>
                <a:cubicBezTo>
                  <a:pt x="1577" y="8121"/>
                  <a:pt x="1554" y="8168"/>
                  <a:pt x="1554" y="8235"/>
                </a:cubicBezTo>
                <a:cubicBezTo>
                  <a:pt x="1554" y="8334"/>
                  <a:pt x="1574" y="8419"/>
                  <a:pt x="1588" y="8500"/>
                </a:cubicBezTo>
                <a:cubicBezTo>
                  <a:pt x="1606" y="8608"/>
                  <a:pt x="1640" y="8576"/>
                  <a:pt x="1720" y="8632"/>
                </a:cubicBezTo>
                <a:cubicBezTo>
                  <a:pt x="1769" y="8667"/>
                  <a:pt x="1805" y="8705"/>
                  <a:pt x="1852" y="8731"/>
                </a:cubicBezTo>
                <a:cubicBezTo>
                  <a:pt x="1907" y="8761"/>
                  <a:pt x="1983" y="8818"/>
                  <a:pt x="2051" y="8830"/>
                </a:cubicBezTo>
                <a:cubicBezTo>
                  <a:pt x="2217" y="8859"/>
                  <a:pt x="2329" y="8801"/>
                  <a:pt x="2480" y="8764"/>
                </a:cubicBezTo>
                <a:cubicBezTo>
                  <a:pt x="2544" y="8748"/>
                  <a:pt x="2616" y="8753"/>
                  <a:pt x="2679" y="8731"/>
                </a:cubicBezTo>
                <a:cubicBezTo>
                  <a:pt x="2725" y="8715"/>
                  <a:pt x="2741" y="8696"/>
                  <a:pt x="2778" y="8665"/>
                </a:cubicBezTo>
                <a:cubicBezTo>
                  <a:pt x="2814" y="8635"/>
                  <a:pt x="2859" y="8572"/>
                  <a:pt x="2910" y="8533"/>
                </a:cubicBezTo>
                <a:cubicBezTo>
                  <a:pt x="2982" y="8478"/>
                  <a:pt x="3067" y="8389"/>
                  <a:pt x="3109" y="8301"/>
                </a:cubicBezTo>
                <a:cubicBezTo>
                  <a:pt x="3132" y="8252"/>
                  <a:pt x="3152" y="8182"/>
                  <a:pt x="3175" y="8136"/>
                </a:cubicBezTo>
                <a:cubicBezTo>
                  <a:pt x="3197" y="8093"/>
                  <a:pt x="3205" y="8057"/>
                  <a:pt x="3208" y="8004"/>
                </a:cubicBezTo>
                <a:cubicBezTo>
                  <a:pt x="3215" y="7880"/>
                  <a:pt x="3234" y="7684"/>
                  <a:pt x="3175" y="7574"/>
                </a:cubicBezTo>
                <a:cubicBezTo>
                  <a:pt x="3097" y="7430"/>
                  <a:pt x="2927" y="7317"/>
                  <a:pt x="2844" y="7177"/>
                </a:cubicBezTo>
                <a:cubicBezTo>
                  <a:pt x="2791" y="7087"/>
                  <a:pt x="2659" y="6928"/>
                  <a:pt x="2547" y="6879"/>
                </a:cubicBezTo>
                <a:cubicBezTo>
                  <a:pt x="2489" y="6853"/>
                  <a:pt x="2478" y="6850"/>
                  <a:pt x="2414" y="6846"/>
                </a:cubicBezTo>
                <a:cubicBezTo>
                  <a:pt x="2324" y="6841"/>
                  <a:pt x="2323" y="6845"/>
                  <a:pt x="2249" y="6912"/>
                </a:cubicBezTo>
                <a:cubicBezTo>
                  <a:pt x="2205" y="6956"/>
                  <a:pt x="2183" y="6978"/>
                  <a:pt x="2150" y="7011"/>
                </a:cubicBezTo>
              </a:path>
              <a:path w="1688" h="3871">
                <a:moveTo>
                  <a:pt x="2679" y="9856"/>
                </a:moveTo>
                <a:cubicBezTo>
                  <a:pt x="2648" y="9825"/>
                  <a:pt x="2665" y="9805"/>
                  <a:pt x="2613" y="9790"/>
                </a:cubicBezTo>
                <a:cubicBezTo>
                  <a:pt x="2475" y="9751"/>
                  <a:pt x="2276" y="9802"/>
                  <a:pt x="2150" y="9823"/>
                </a:cubicBezTo>
                <a:cubicBezTo>
                  <a:pt x="2101" y="9831"/>
                  <a:pt x="2055" y="9848"/>
                  <a:pt x="2017" y="9856"/>
                </a:cubicBezTo>
                <a:cubicBezTo>
                  <a:pt x="1947" y="9870"/>
                  <a:pt x="1939" y="9868"/>
                  <a:pt x="1885" y="9922"/>
                </a:cubicBezTo>
                <a:cubicBezTo>
                  <a:pt x="1876" y="9931"/>
                  <a:pt x="1787" y="10021"/>
                  <a:pt x="1786" y="10021"/>
                </a:cubicBezTo>
                <a:cubicBezTo>
                  <a:pt x="1722" y="10044"/>
                  <a:pt x="1711" y="10021"/>
                  <a:pt x="1654" y="10087"/>
                </a:cubicBezTo>
                <a:cubicBezTo>
                  <a:pt x="1629" y="10116"/>
                  <a:pt x="1608" y="10166"/>
                  <a:pt x="1588" y="10186"/>
                </a:cubicBezTo>
                <a:cubicBezTo>
                  <a:pt x="1552" y="10222"/>
                  <a:pt x="1529" y="10304"/>
                  <a:pt x="1521" y="10352"/>
                </a:cubicBezTo>
                <a:cubicBezTo>
                  <a:pt x="1508" y="10433"/>
                  <a:pt x="1525" y="10514"/>
                  <a:pt x="1554" y="10550"/>
                </a:cubicBezTo>
                <a:cubicBezTo>
                  <a:pt x="1587" y="10590"/>
                  <a:pt x="1706" y="10610"/>
                  <a:pt x="1753" y="10616"/>
                </a:cubicBezTo>
                <a:cubicBezTo>
                  <a:pt x="1897" y="10635"/>
                  <a:pt x="2038" y="10631"/>
                  <a:pt x="2183" y="10649"/>
                </a:cubicBezTo>
                <a:cubicBezTo>
                  <a:pt x="2371" y="10672"/>
                  <a:pt x="2519" y="10716"/>
                  <a:pt x="2712" y="10716"/>
                </a:cubicBezTo>
                <a:cubicBezTo>
                  <a:pt x="2868" y="10716"/>
                  <a:pt x="2909" y="10628"/>
                  <a:pt x="3010" y="10517"/>
                </a:cubicBezTo>
                <a:cubicBezTo>
                  <a:pt x="3068" y="10453"/>
                  <a:pt x="3129" y="10368"/>
                  <a:pt x="3175" y="10319"/>
                </a:cubicBezTo>
                <a:cubicBezTo>
                  <a:pt x="3222" y="10268"/>
                  <a:pt x="3208" y="10224"/>
                  <a:pt x="3208" y="10153"/>
                </a:cubicBezTo>
                <a:cubicBezTo>
                  <a:pt x="3208" y="10007"/>
                  <a:pt x="3197" y="9942"/>
                  <a:pt x="3142" y="9823"/>
                </a:cubicBezTo>
                <a:cubicBezTo>
                  <a:pt x="3075" y="9679"/>
                  <a:pt x="3039" y="9576"/>
                  <a:pt x="2977" y="9459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169200" y="154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3"/>
          <p:cNvGraphicFramePr/>
          <p:nvPr/>
        </p:nvGraphicFramePr>
        <p:xfrm>
          <a:off x="0" y="1054080"/>
          <a:ext cx="239400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4080"/>
                    <a:ext cx="239400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4"/>
          <p:cNvGraphicFramePr/>
          <p:nvPr/>
        </p:nvGraphicFramePr>
        <p:xfrm>
          <a:off x="2814480" y="1176480"/>
          <a:ext cx="1986120" cy="69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4480" y="1176480"/>
                    <a:ext cx="19861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5"/>
          <p:cNvGraphicFramePr/>
          <p:nvPr/>
        </p:nvGraphicFramePr>
        <p:xfrm>
          <a:off x="2971800" y="1905120"/>
          <a:ext cx="146052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905120"/>
                    <a:ext cx="14605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6"/>
          <p:cNvGraphicFramePr/>
          <p:nvPr/>
        </p:nvGraphicFramePr>
        <p:xfrm>
          <a:off x="5181480" y="685800"/>
          <a:ext cx="144792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685800"/>
                    <a:ext cx="14479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7"/>
          <p:cNvGraphicFramePr/>
          <p:nvPr/>
        </p:nvGraphicFramePr>
        <p:xfrm>
          <a:off x="5181480" y="1523880"/>
          <a:ext cx="121932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1523880"/>
                    <a:ext cx="1219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8"/>
          <p:cNvGraphicFramePr/>
          <p:nvPr/>
        </p:nvGraphicFramePr>
        <p:xfrm>
          <a:off x="646200" y="2655720"/>
          <a:ext cx="2020680" cy="1298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6200" y="2655720"/>
                    <a:ext cx="2020680" cy="12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9"/>
          <p:cNvGraphicFramePr/>
          <p:nvPr/>
        </p:nvGraphicFramePr>
        <p:xfrm>
          <a:off x="800280" y="4267080"/>
          <a:ext cx="1180800" cy="1814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7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0280" y="4267080"/>
                    <a:ext cx="1180800" cy="18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10"/>
          <p:cNvSpPr/>
          <p:nvPr/>
        </p:nvSpPr>
        <p:spPr>
          <a:xfrm>
            <a:off x="2366640" y="477504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on’t forget to use the new lim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1"/>
          <p:cNvGraphicFramePr/>
          <p:nvPr/>
        </p:nvGraphicFramePr>
        <p:xfrm>
          <a:off x="836640" y="6491160"/>
          <a:ext cx="1525680" cy="1427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0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36640" y="6491160"/>
                    <a:ext cx="1525680" cy="14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12"/>
          <p:cNvGraphicFramePr/>
          <p:nvPr/>
        </p:nvGraphicFramePr>
        <p:xfrm>
          <a:off x="2971800" y="6553080"/>
          <a:ext cx="1625760" cy="1339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2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71800" y="6553080"/>
                    <a:ext cx="162576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13"/>
          <p:cNvGraphicFramePr/>
          <p:nvPr/>
        </p:nvGraphicFramePr>
        <p:xfrm>
          <a:off x="4724280" y="6477120"/>
          <a:ext cx="1409760" cy="1468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4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24280" y="6477120"/>
                    <a:ext cx="140976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4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6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Ink 15"/>
          <p:cNvSpPr/>
          <p:nvPr/>
        </p:nvSpPr>
        <p:spPr>
          <a:xfrm>
            <a:off x="3870360" y="1047600"/>
            <a:ext cx="249120" cy="238320"/>
          </a:xfrm>
          <a:custGeom>
            <a:avLst/>
            <a:gdLst/>
            <a:ahLst/>
            <a:rect l="l" t="t" r="r" b="b"/>
            <a:pathLst>
              <a:path w="695" h="663">
                <a:moveTo>
                  <a:pt x="10749" y="3175"/>
                </a:moveTo>
                <a:cubicBezTo>
                  <a:pt x="10898" y="3175"/>
                  <a:pt x="11049" y="3185"/>
                  <a:pt x="11179" y="3142"/>
                </a:cubicBezTo>
                <a:cubicBezTo>
                  <a:pt x="11212" y="3142"/>
                  <a:pt x="11223" y="3142"/>
                  <a:pt x="11245" y="3142"/>
                </a:cubicBezTo>
              </a:path>
              <a:path w="695" h="663">
                <a:moveTo>
                  <a:pt x="11311" y="2910"/>
                </a:moveTo>
                <a:cubicBezTo>
                  <a:pt x="11322" y="2910"/>
                  <a:pt x="11333" y="2910"/>
                  <a:pt x="11344" y="2910"/>
                </a:cubicBezTo>
                <a:cubicBezTo>
                  <a:pt x="11344" y="3001"/>
                  <a:pt x="11356" y="3024"/>
                  <a:pt x="11377" y="3109"/>
                </a:cubicBezTo>
                <a:cubicBezTo>
                  <a:pt x="11395" y="3180"/>
                  <a:pt x="11397" y="3278"/>
                  <a:pt x="11410" y="3340"/>
                </a:cubicBezTo>
                <a:cubicBezTo>
                  <a:pt x="11423" y="3403"/>
                  <a:pt x="11443" y="3441"/>
                  <a:pt x="11443" y="3506"/>
                </a:cubicBezTo>
                <a:cubicBezTo>
                  <a:pt x="11443" y="3539"/>
                  <a:pt x="11443" y="3550"/>
                  <a:pt x="11443" y="3572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Ink 16"/>
          <p:cNvSpPr/>
          <p:nvPr/>
        </p:nvSpPr>
        <p:spPr>
          <a:xfrm>
            <a:off x="928800" y="1857240"/>
            <a:ext cx="285480" cy="333360"/>
          </a:xfrm>
          <a:custGeom>
            <a:avLst/>
            <a:gdLst/>
            <a:ahLst/>
            <a:rect l="l" t="t" r="r" b="b"/>
            <a:pathLst>
              <a:path w="794" h="927">
                <a:moveTo>
                  <a:pt x="2910" y="5159"/>
                </a:moveTo>
                <a:cubicBezTo>
                  <a:pt x="2910" y="5309"/>
                  <a:pt x="2903" y="5457"/>
                  <a:pt x="2877" y="5589"/>
                </a:cubicBezTo>
                <a:cubicBezTo>
                  <a:pt x="2863" y="5661"/>
                  <a:pt x="2850" y="5719"/>
                  <a:pt x="2844" y="5788"/>
                </a:cubicBezTo>
                <a:cubicBezTo>
                  <a:pt x="2836" y="5879"/>
                  <a:pt x="2829" y="5928"/>
                  <a:pt x="2811" y="6019"/>
                </a:cubicBezTo>
                <a:cubicBezTo>
                  <a:pt x="2809" y="6029"/>
                  <a:pt x="2811" y="6141"/>
                  <a:pt x="2811" y="6052"/>
                </a:cubicBezTo>
                <a:cubicBezTo>
                  <a:pt x="2811" y="5799"/>
                  <a:pt x="2811" y="5545"/>
                  <a:pt x="2811" y="5292"/>
                </a:cubicBezTo>
                <a:cubicBezTo>
                  <a:pt x="2780" y="5346"/>
                  <a:pt x="2743" y="5447"/>
                  <a:pt x="2712" y="5490"/>
                </a:cubicBezTo>
                <a:cubicBezTo>
                  <a:pt x="2661" y="5560"/>
                  <a:pt x="2623" y="5580"/>
                  <a:pt x="2580" y="5655"/>
                </a:cubicBezTo>
                <a:cubicBezTo>
                  <a:pt x="2580" y="5589"/>
                  <a:pt x="2639" y="5543"/>
                  <a:pt x="2646" y="5523"/>
                </a:cubicBezTo>
                <a:cubicBezTo>
                  <a:pt x="2675" y="5435"/>
                  <a:pt x="2706" y="5404"/>
                  <a:pt x="2778" y="5325"/>
                </a:cubicBezTo>
                <a:cubicBezTo>
                  <a:pt x="2813" y="5286"/>
                  <a:pt x="2820" y="5238"/>
                  <a:pt x="2877" y="5226"/>
                </a:cubicBezTo>
                <a:cubicBezTo>
                  <a:pt x="2979" y="5204"/>
                  <a:pt x="3009" y="5258"/>
                  <a:pt x="3076" y="5325"/>
                </a:cubicBezTo>
                <a:cubicBezTo>
                  <a:pt x="3155" y="5404"/>
                  <a:pt x="3303" y="5435"/>
                  <a:pt x="3373" y="5523"/>
                </a:cubicBezTo>
                <a:cubicBezTo>
                  <a:pt x="3373" y="5534"/>
                  <a:pt x="3373" y="5545"/>
                  <a:pt x="3373" y="5556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571680" y="3048120"/>
            <a:ext cx="57276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in rule allows us to differentiate a wide variety of functions, but we are able to find antiderivatives for only a limited range of functions.  We can sometimes use substitution to rewrite functions in a form that we can integ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6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69920" y="1540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628560" y="1117440"/>
          <a:ext cx="1962360" cy="9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117440"/>
                    <a:ext cx="19623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4"/>
          <p:cNvGraphicFramePr/>
          <p:nvPr/>
        </p:nvGraphicFramePr>
        <p:xfrm>
          <a:off x="2629080" y="1219320"/>
          <a:ext cx="3162240" cy="63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9080" y="1219320"/>
                    <a:ext cx="316224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5"/>
          <p:cNvGraphicFramePr/>
          <p:nvPr/>
        </p:nvGraphicFramePr>
        <p:xfrm>
          <a:off x="3029040" y="2133720"/>
          <a:ext cx="2228760" cy="63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29040" y="2133720"/>
                    <a:ext cx="22287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6"/>
          <p:cNvGraphicFramePr/>
          <p:nvPr/>
        </p:nvGraphicFramePr>
        <p:xfrm>
          <a:off x="228600" y="2641680"/>
          <a:ext cx="1501920" cy="101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641680"/>
                    <a:ext cx="15019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7"/>
          <p:cNvGraphicFramePr/>
          <p:nvPr/>
        </p:nvGraphicFramePr>
        <p:xfrm>
          <a:off x="743040" y="4064040"/>
          <a:ext cx="2305080" cy="14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3040" y="4064040"/>
                    <a:ext cx="230508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Freeform 8"/>
          <p:cNvSpPr/>
          <p:nvPr/>
        </p:nvSpPr>
        <p:spPr>
          <a:xfrm>
            <a:off x="1771560" y="2743200"/>
            <a:ext cx="1371600" cy="7952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795240"/>
              <a:gd name="textAreaBottom" fmla="*/ 795600 h 795240"/>
            </a:gdLst>
            <a:ahLst/>
            <a:rect l="textAreaLeft" t="textAreaTop" r="textAreaRight" b="textAreaBottom"/>
            <a:pathLst>
              <a:path w="1152" h="376">
                <a:moveTo>
                  <a:pt x="1152" y="0"/>
                </a:moveTo>
                <a:cubicBezTo>
                  <a:pt x="936" y="148"/>
                  <a:pt x="720" y="296"/>
                  <a:pt x="528" y="336"/>
                </a:cubicBezTo>
                <a:cubicBezTo>
                  <a:pt x="336" y="376"/>
                  <a:pt x="168" y="308"/>
                  <a:pt x="0" y="24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9"/>
          <p:cNvSpPr/>
          <p:nvPr/>
        </p:nvSpPr>
        <p:spPr>
          <a:xfrm>
            <a:off x="1200240" y="1828800"/>
            <a:ext cx="2057400" cy="91440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728" h="432">
                <a:moveTo>
                  <a:pt x="1728" y="0"/>
                </a:moveTo>
                <a:cubicBezTo>
                  <a:pt x="1520" y="156"/>
                  <a:pt x="1312" y="312"/>
                  <a:pt x="1056" y="336"/>
                </a:cubicBezTo>
                <a:cubicBezTo>
                  <a:pt x="800" y="360"/>
                  <a:pt x="368" y="128"/>
                  <a:pt x="192" y="144"/>
                </a:cubicBezTo>
                <a:cubicBezTo>
                  <a:pt x="16" y="160"/>
                  <a:pt x="8" y="296"/>
                  <a:pt x="0" y="43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0"/>
          <p:cNvGraphicFramePr/>
          <p:nvPr/>
        </p:nvGraphicFramePr>
        <p:xfrm>
          <a:off x="514440" y="5791320"/>
          <a:ext cx="1616040" cy="166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4440" y="5791320"/>
                    <a:ext cx="161604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11"/>
          <p:cNvSpPr/>
          <p:nvPr/>
        </p:nvSpPr>
        <p:spPr>
          <a:xfrm>
            <a:off x="3429000" y="3251160"/>
            <a:ext cx="309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variable of integration must match the variable in the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3429000" y="3149640"/>
            <a:ext cx="28576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2960640" y="5538960"/>
            <a:ext cx="361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Don’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forget to substitute the value f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ack into the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5"/>
          <p:cNvSpPr/>
          <p:nvPr/>
        </p:nvSpPr>
        <p:spPr>
          <a:xfrm>
            <a:off x="1028880" y="2031840"/>
            <a:ext cx="3857400" cy="3861000"/>
          </a:xfrm>
          <a:custGeom>
            <a:avLst/>
            <a:gdLst>
              <a:gd name="textAreaLeft" fmla="*/ 0 w 3857400"/>
              <a:gd name="textAreaRight" fmla="*/ 3857760 w 3857400"/>
              <a:gd name="textAreaTop" fmla="*/ 0 h 3861000"/>
              <a:gd name="textAreaBottom" fmla="*/ 3861360 h 3861000"/>
            </a:gdLst>
            <a:ahLst/>
            <a:rect l="textAreaLeft" t="textAreaTop" r="textAreaRight" b="textAreaBottom"/>
            <a:pathLst>
              <a:path w="3240" h="1824">
                <a:moveTo>
                  <a:pt x="2688" y="0"/>
                </a:moveTo>
                <a:cubicBezTo>
                  <a:pt x="2964" y="220"/>
                  <a:pt x="3240" y="440"/>
                  <a:pt x="2928" y="672"/>
                </a:cubicBezTo>
                <a:cubicBezTo>
                  <a:pt x="2616" y="904"/>
                  <a:pt x="1304" y="1200"/>
                  <a:pt x="816" y="1392"/>
                </a:cubicBezTo>
                <a:cubicBezTo>
                  <a:pt x="328" y="1584"/>
                  <a:pt x="164" y="1704"/>
                  <a:pt x="0" y="18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1143000" y="1905120"/>
            <a:ext cx="57168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17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9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1"/>
          <p:cNvSpPr/>
          <p:nvPr/>
        </p:nvSpPr>
        <p:spPr>
          <a:xfrm>
            <a:off x="5257800" y="2438280"/>
            <a:ext cx="685800" cy="71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57200" y="1219320"/>
            <a:ext cx="1028880" cy="71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160200" y="154080"/>
            <a:ext cx="20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0" y="990720"/>
          <a:ext cx="233352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233352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Group 14"/>
          <p:cNvGrpSpPr/>
          <p:nvPr/>
        </p:nvGrpSpPr>
        <p:grpSpPr>
          <a:xfrm>
            <a:off x="2685960" y="507960"/>
            <a:ext cx="3829320" cy="1726920"/>
            <a:chOff x="2685960" y="507960"/>
            <a:chExt cx="3829320" cy="1726920"/>
          </a:xfrm>
        </p:grpSpPr>
        <p:sp>
          <p:nvSpPr>
            <p:cNvPr id="76" name="Rectangle 13"/>
            <p:cNvSpPr/>
            <p:nvPr/>
          </p:nvSpPr>
          <p:spPr>
            <a:xfrm>
              <a:off x="2685960" y="507960"/>
              <a:ext cx="3714840" cy="172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4"/>
            <p:cNvSpPr/>
            <p:nvPr/>
          </p:nvSpPr>
          <p:spPr>
            <a:xfrm>
              <a:off x="2731320" y="560880"/>
              <a:ext cx="3783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of the clues that we look for is if we can find a function and its derivative in the integran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6"/>
          <p:cNvSpPr/>
          <p:nvPr/>
        </p:nvSpPr>
        <p:spPr>
          <a:xfrm>
            <a:off x="1523880" y="1752480"/>
            <a:ext cx="685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0"/>
          <p:cNvGrpSpPr/>
          <p:nvPr/>
        </p:nvGrpSpPr>
        <p:grpSpPr>
          <a:xfrm>
            <a:off x="2743200" y="2438280"/>
            <a:ext cx="3784680" cy="977400"/>
            <a:chOff x="2743200" y="2438280"/>
            <a:chExt cx="3784680" cy="977400"/>
          </a:xfrm>
        </p:grpSpPr>
        <p:sp>
          <p:nvSpPr>
            <p:cNvPr id="80" name="Text Box 7"/>
            <p:cNvSpPr/>
            <p:nvPr/>
          </p:nvSpPr>
          <p:spPr>
            <a:xfrm>
              <a:off x="2743200" y="2590200"/>
              <a:ext cx="378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The derivative of              is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Object 8"/>
            <p:cNvGraphicFramePr/>
            <p:nvPr/>
          </p:nvGraphicFramePr>
          <p:xfrm>
            <a:off x="5182200" y="2438280"/>
            <a:ext cx="682200" cy="55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82200" y="2438280"/>
                      <a:ext cx="682200" cy="55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" name="Object 9"/>
            <p:cNvGraphicFramePr/>
            <p:nvPr/>
          </p:nvGraphicFramePr>
          <p:xfrm>
            <a:off x="3276720" y="2970720"/>
            <a:ext cx="754560" cy="43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6720" y="2970720"/>
                      <a:ext cx="754560" cy="43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" name="Line 12"/>
          <p:cNvSpPr/>
          <p:nvPr/>
        </p:nvSpPr>
        <p:spPr>
          <a:xfrm>
            <a:off x="3352680" y="3429000"/>
            <a:ext cx="685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15"/>
          <p:cNvGraphicFramePr/>
          <p:nvPr/>
        </p:nvGraphicFramePr>
        <p:xfrm>
          <a:off x="380880" y="3200400"/>
          <a:ext cx="2210040" cy="125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200400"/>
                    <a:ext cx="221004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Line 16"/>
          <p:cNvSpPr/>
          <p:nvPr/>
        </p:nvSpPr>
        <p:spPr>
          <a:xfrm>
            <a:off x="990720" y="1828800"/>
            <a:ext cx="0" cy="19303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1828800" y="1828800"/>
            <a:ext cx="152280" cy="1905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8"/>
          <p:cNvGraphicFramePr/>
          <p:nvPr/>
        </p:nvGraphicFramePr>
        <p:xfrm>
          <a:off x="685800" y="4673520"/>
          <a:ext cx="1600200" cy="142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4673520"/>
                    <a:ext cx="1600200" cy="14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9"/>
          <p:cNvGraphicFramePr/>
          <p:nvPr/>
        </p:nvGraphicFramePr>
        <p:xfrm>
          <a:off x="457200" y="6705720"/>
          <a:ext cx="2133720" cy="142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6705720"/>
                    <a:ext cx="213372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20"/>
          <p:cNvGraphicFramePr/>
          <p:nvPr/>
        </p:nvGraphicFramePr>
        <p:xfrm>
          <a:off x="3657600" y="3429000"/>
          <a:ext cx="2895480" cy="69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5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57600" y="3429000"/>
                    <a:ext cx="2895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21"/>
          <p:cNvGraphicFramePr/>
          <p:nvPr/>
        </p:nvGraphicFramePr>
        <p:xfrm>
          <a:off x="3886200" y="4038480"/>
          <a:ext cx="2228760" cy="603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7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86200" y="4038480"/>
                    <a:ext cx="22287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Group 24"/>
          <p:cNvGrpSpPr/>
          <p:nvPr/>
        </p:nvGrpSpPr>
        <p:grpSpPr>
          <a:xfrm>
            <a:off x="2743200" y="4952880"/>
            <a:ext cx="3828960" cy="2412720"/>
            <a:chOff x="2743200" y="4952880"/>
            <a:chExt cx="3828960" cy="2412720"/>
          </a:xfrm>
        </p:grpSpPr>
        <p:sp>
          <p:nvSpPr>
            <p:cNvPr id="99" name="Rectangle 23"/>
            <p:cNvSpPr/>
            <p:nvPr/>
          </p:nvSpPr>
          <p:spPr>
            <a:xfrm>
              <a:off x="2743200" y="5029200"/>
              <a:ext cx="3828960" cy="2336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2"/>
            <p:cNvSpPr/>
            <p:nvPr/>
          </p:nvSpPr>
          <p:spPr>
            <a:xfrm>
              <a:off x="2743200" y="4952880"/>
              <a:ext cx="382896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 that this only worked because of th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in the origin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ny integrals can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no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be done by substitu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1" name="Object 25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2" name="Object 2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69920" y="1540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7400" y="1138320"/>
          <a:ext cx="22021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138320"/>
                    <a:ext cx="22021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4"/>
          <p:cNvGraphicFramePr/>
          <p:nvPr/>
        </p:nvGraphicFramePr>
        <p:xfrm>
          <a:off x="3352680" y="1066680"/>
          <a:ext cx="251460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066680"/>
                    <a:ext cx="25146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5"/>
          <p:cNvGraphicFramePr/>
          <p:nvPr/>
        </p:nvGraphicFramePr>
        <p:xfrm>
          <a:off x="2857680" y="2133720"/>
          <a:ext cx="1866600" cy="60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2133720"/>
                    <a:ext cx="18666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6"/>
          <p:cNvGraphicFramePr/>
          <p:nvPr/>
        </p:nvGraphicFramePr>
        <p:xfrm>
          <a:off x="2800440" y="3048120"/>
          <a:ext cx="2152440" cy="13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0440" y="3048120"/>
                    <a:ext cx="21524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AutoShape 7"/>
          <p:cNvSpPr/>
          <p:nvPr/>
        </p:nvSpPr>
        <p:spPr>
          <a:xfrm>
            <a:off x="5105520" y="2286000"/>
            <a:ext cx="342720" cy="2031840"/>
          </a:xfrm>
          <a:custGeom>
            <a:avLst/>
            <a:gdLst>
              <a:gd name="textAreaLeft" fmla="*/ 0 w 342720"/>
              <a:gd name="textAreaRight" fmla="*/ 123840 w 342720"/>
              <a:gd name="textAreaTop" fmla="*/ 29520 h 2031840"/>
              <a:gd name="textAreaBottom" fmla="*/ 2002320 h 20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3"/>
                </a:cubicBezTo>
                <a:lnTo>
                  <a:pt x="10800" y="9787"/>
                </a:lnTo>
                <a:cubicBezTo>
                  <a:pt x="10800" y="10294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3"/>
                </a:cubicBezTo>
                <a:lnTo>
                  <a:pt x="10800" y="20587"/>
                </a:lnTo>
                <a:cubicBezTo>
                  <a:pt x="10800" y="2109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342400" y="2666880"/>
            <a:ext cx="138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olv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x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9"/>
          <p:cNvGraphicFramePr/>
          <p:nvPr/>
        </p:nvGraphicFramePr>
        <p:xfrm>
          <a:off x="304920" y="2554200"/>
          <a:ext cx="1981080" cy="142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2554200"/>
                    <a:ext cx="1981080" cy="14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0"/>
          <p:cNvGraphicFramePr/>
          <p:nvPr/>
        </p:nvGraphicFramePr>
        <p:xfrm>
          <a:off x="685800" y="4165560"/>
          <a:ext cx="2133720" cy="142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7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4165560"/>
                    <a:ext cx="213372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1"/>
          <p:cNvGraphicFramePr/>
          <p:nvPr/>
        </p:nvGraphicFramePr>
        <p:xfrm>
          <a:off x="857160" y="5892840"/>
          <a:ext cx="1809720" cy="1427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57160" y="5892840"/>
                    <a:ext cx="180972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2"/>
          <p:cNvGraphicFramePr/>
          <p:nvPr/>
        </p:nvGraphicFramePr>
        <p:xfrm>
          <a:off x="514440" y="7416720"/>
          <a:ext cx="3371760" cy="1382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1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440" y="7416720"/>
                    <a:ext cx="33717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3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3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Ink 14"/>
          <p:cNvSpPr/>
          <p:nvPr/>
        </p:nvSpPr>
        <p:spPr>
          <a:xfrm>
            <a:off x="2952720" y="2738520"/>
            <a:ext cx="476280" cy="393480"/>
          </a:xfrm>
          <a:custGeom>
            <a:avLst/>
            <a:gdLst/>
            <a:ahLst/>
            <a:rect l="l" t="t" r="r" b="b"/>
            <a:pathLst>
              <a:path w="1324" h="1092">
                <a:moveTo>
                  <a:pt x="8202" y="7607"/>
                </a:moveTo>
                <a:cubicBezTo>
                  <a:pt x="8308" y="7607"/>
                  <a:pt x="8411" y="7629"/>
                  <a:pt x="8500" y="7640"/>
                </a:cubicBezTo>
                <a:cubicBezTo>
                  <a:pt x="8641" y="7657"/>
                  <a:pt x="8791" y="7658"/>
                  <a:pt x="8930" y="7673"/>
                </a:cubicBezTo>
                <a:cubicBezTo>
                  <a:pt x="9015" y="7682"/>
                  <a:pt x="9050" y="7706"/>
                  <a:pt x="9128" y="7706"/>
                </a:cubicBezTo>
                <a:cubicBezTo>
                  <a:pt x="9260" y="7706"/>
                  <a:pt x="9393" y="7706"/>
                  <a:pt x="9525" y="7706"/>
                </a:cubicBezTo>
              </a:path>
              <a:path w="1324" h="1092">
                <a:moveTo>
                  <a:pt x="9128" y="7904"/>
                </a:moveTo>
                <a:cubicBezTo>
                  <a:pt x="9128" y="8081"/>
                  <a:pt x="9128" y="8257"/>
                  <a:pt x="9128" y="8434"/>
                </a:cubicBezTo>
                <a:cubicBezTo>
                  <a:pt x="9234" y="8434"/>
                  <a:pt x="9147" y="8406"/>
                  <a:pt x="9194" y="8367"/>
                </a:cubicBezTo>
                <a:cubicBezTo>
                  <a:pt x="9209" y="8355"/>
                  <a:pt x="9287" y="8272"/>
                  <a:pt x="9293" y="8268"/>
                </a:cubicBezTo>
                <a:cubicBezTo>
                  <a:pt x="9323" y="8249"/>
                  <a:pt x="9368" y="8243"/>
                  <a:pt x="9393" y="8235"/>
                </a:cubicBezTo>
              </a:path>
              <a:path w="1324" h="1092">
                <a:moveTo>
                  <a:pt x="9327" y="7971"/>
                </a:moveTo>
                <a:cubicBezTo>
                  <a:pt x="9327" y="8180"/>
                  <a:pt x="9327" y="8390"/>
                  <a:pt x="9327" y="8599"/>
                </a:cubicBezTo>
                <a:cubicBezTo>
                  <a:pt x="9370" y="8613"/>
                  <a:pt x="9380" y="8644"/>
                  <a:pt x="9393" y="86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15"/>
          <p:cNvSpPr/>
          <p:nvPr/>
        </p:nvSpPr>
        <p:spPr>
          <a:xfrm>
            <a:off x="3963960" y="2714760"/>
            <a:ext cx="787320" cy="476280"/>
          </a:xfrm>
          <a:custGeom>
            <a:avLst/>
            <a:gdLst/>
            <a:ahLst/>
            <a:rect l="l" t="t" r="r" b="b"/>
            <a:pathLst>
              <a:path w="2184" h="1324">
                <a:moveTo>
                  <a:pt x="11013" y="7607"/>
                </a:moveTo>
                <a:cubicBezTo>
                  <a:pt x="11127" y="7579"/>
                  <a:pt x="11220" y="7574"/>
                  <a:pt x="11344" y="7574"/>
                </a:cubicBezTo>
                <a:cubicBezTo>
                  <a:pt x="11878" y="7574"/>
                  <a:pt x="12660" y="7692"/>
                  <a:pt x="13163" y="7541"/>
                </a:cubicBezTo>
                <a:cubicBezTo>
                  <a:pt x="13174" y="7541"/>
                  <a:pt x="13185" y="7541"/>
                  <a:pt x="13196" y="7541"/>
                </a:cubicBezTo>
              </a:path>
              <a:path w="2184" h="1324">
                <a:moveTo>
                  <a:pt x="12171" y="7938"/>
                </a:moveTo>
                <a:cubicBezTo>
                  <a:pt x="12171" y="7999"/>
                  <a:pt x="12198" y="8016"/>
                  <a:pt x="12204" y="8070"/>
                </a:cubicBezTo>
                <a:cubicBezTo>
                  <a:pt x="12215" y="8166"/>
                  <a:pt x="12204" y="8270"/>
                  <a:pt x="12204" y="8367"/>
                </a:cubicBezTo>
                <a:cubicBezTo>
                  <a:pt x="12259" y="8367"/>
                  <a:pt x="12314" y="8367"/>
                  <a:pt x="12369" y="8367"/>
                </a:cubicBezTo>
                <a:cubicBezTo>
                  <a:pt x="12379" y="8337"/>
                  <a:pt x="12426" y="8315"/>
                  <a:pt x="12468" y="8301"/>
                </a:cubicBezTo>
                <a:cubicBezTo>
                  <a:pt x="12502" y="8301"/>
                  <a:pt x="12513" y="8301"/>
                  <a:pt x="12502" y="8268"/>
                </a:cubicBezTo>
              </a:path>
              <a:path w="2184" h="1324">
                <a:moveTo>
                  <a:pt x="12502" y="8037"/>
                </a:moveTo>
                <a:cubicBezTo>
                  <a:pt x="12502" y="8123"/>
                  <a:pt x="12503" y="8184"/>
                  <a:pt x="12535" y="8268"/>
                </a:cubicBezTo>
                <a:cubicBezTo>
                  <a:pt x="12584" y="8398"/>
                  <a:pt x="12627" y="8528"/>
                  <a:pt x="12634" y="8665"/>
                </a:cubicBezTo>
                <a:cubicBezTo>
                  <a:pt x="12637" y="8735"/>
                  <a:pt x="12656" y="8796"/>
                  <a:pt x="12667" y="8864"/>
                </a:cubicBezTo>
                <a:cubicBezTo>
                  <a:pt x="12711" y="8834"/>
                  <a:pt x="12700" y="8798"/>
                  <a:pt x="12700" y="8731"/>
                </a:cubicBezTo>
                <a:cubicBezTo>
                  <a:pt x="12700" y="8720"/>
                  <a:pt x="12700" y="8709"/>
                  <a:pt x="12700" y="86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16"/>
          <p:cNvSpPr/>
          <p:nvPr/>
        </p:nvSpPr>
        <p:spPr>
          <a:xfrm>
            <a:off x="1844640" y="798480"/>
            <a:ext cx="4097520" cy="1082880"/>
          </a:xfrm>
          <a:custGeom>
            <a:avLst/>
            <a:gdLst/>
            <a:ahLst/>
            <a:rect l="l" t="t" r="r" b="b"/>
            <a:pathLst>
              <a:path w="11378" h="3011">
                <a:moveTo>
                  <a:pt x="15544" y="2712"/>
                </a:moveTo>
                <a:cubicBezTo>
                  <a:pt x="15492" y="2706"/>
                  <a:pt x="15470" y="2682"/>
                  <a:pt x="15412" y="2679"/>
                </a:cubicBezTo>
                <a:cubicBezTo>
                  <a:pt x="15109" y="2662"/>
                  <a:pt x="14658" y="2630"/>
                  <a:pt x="14420" y="2712"/>
                </a:cubicBezTo>
                <a:cubicBezTo>
                  <a:pt x="14335" y="2741"/>
                  <a:pt x="14276" y="2776"/>
                  <a:pt x="14221" y="2811"/>
                </a:cubicBezTo>
                <a:cubicBezTo>
                  <a:pt x="14171" y="2843"/>
                  <a:pt x="14139" y="2871"/>
                  <a:pt x="14089" y="2910"/>
                </a:cubicBezTo>
                <a:cubicBezTo>
                  <a:pt x="14041" y="2948"/>
                  <a:pt x="13996" y="2979"/>
                  <a:pt x="13957" y="3010"/>
                </a:cubicBezTo>
                <a:cubicBezTo>
                  <a:pt x="13907" y="3050"/>
                  <a:pt x="13872" y="3073"/>
                  <a:pt x="13824" y="3109"/>
                </a:cubicBezTo>
                <a:cubicBezTo>
                  <a:pt x="13745" y="3168"/>
                  <a:pt x="13662" y="3208"/>
                  <a:pt x="13593" y="3274"/>
                </a:cubicBezTo>
                <a:cubicBezTo>
                  <a:pt x="13542" y="3322"/>
                  <a:pt x="13481" y="3379"/>
                  <a:pt x="13461" y="3440"/>
                </a:cubicBezTo>
                <a:cubicBezTo>
                  <a:pt x="13413" y="3584"/>
                  <a:pt x="13471" y="3794"/>
                  <a:pt x="13527" y="3903"/>
                </a:cubicBezTo>
                <a:cubicBezTo>
                  <a:pt x="13575" y="3996"/>
                  <a:pt x="13655" y="4090"/>
                  <a:pt x="13725" y="4167"/>
                </a:cubicBezTo>
                <a:cubicBezTo>
                  <a:pt x="13797" y="4246"/>
                  <a:pt x="13843" y="4301"/>
                  <a:pt x="13924" y="4366"/>
                </a:cubicBezTo>
                <a:cubicBezTo>
                  <a:pt x="13946" y="4384"/>
                  <a:pt x="14046" y="4459"/>
                  <a:pt x="14056" y="4465"/>
                </a:cubicBezTo>
                <a:cubicBezTo>
                  <a:pt x="14096" y="4490"/>
                  <a:pt x="14178" y="4512"/>
                  <a:pt x="14221" y="4531"/>
                </a:cubicBezTo>
                <a:cubicBezTo>
                  <a:pt x="14289" y="4561"/>
                  <a:pt x="14350" y="4572"/>
                  <a:pt x="14420" y="4597"/>
                </a:cubicBezTo>
                <a:cubicBezTo>
                  <a:pt x="14500" y="4626"/>
                  <a:pt x="14594" y="4684"/>
                  <a:pt x="14684" y="4696"/>
                </a:cubicBezTo>
                <a:cubicBezTo>
                  <a:pt x="15038" y="4742"/>
                  <a:pt x="15602" y="4764"/>
                  <a:pt x="15941" y="4663"/>
                </a:cubicBezTo>
                <a:cubicBezTo>
                  <a:pt x="16026" y="4637"/>
                  <a:pt x="16098" y="4580"/>
                  <a:pt x="16173" y="4531"/>
                </a:cubicBezTo>
                <a:cubicBezTo>
                  <a:pt x="16224" y="4498"/>
                  <a:pt x="16315" y="4432"/>
                  <a:pt x="16338" y="4399"/>
                </a:cubicBezTo>
                <a:cubicBezTo>
                  <a:pt x="16374" y="4348"/>
                  <a:pt x="16406" y="4238"/>
                  <a:pt x="16437" y="4167"/>
                </a:cubicBezTo>
                <a:cubicBezTo>
                  <a:pt x="16456" y="4124"/>
                  <a:pt x="16496" y="4018"/>
                  <a:pt x="16503" y="3969"/>
                </a:cubicBezTo>
                <a:cubicBezTo>
                  <a:pt x="16521" y="3846"/>
                  <a:pt x="16502" y="3708"/>
                  <a:pt x="16470" y="3605"/>
                </a:cubicBezTo>
                <a:cubicBezTo>
                  <a:pt x="16449" y="3537"/>
                  <a:pt x="16444" y="3511"/>
                  <a:pt x="16404" y="3440"/>
                </a:cubicBezTo>
                <a:cubicBezTo>
                  <a:pt x="16349" y="3343"/>
                  <a:pt x="16242" y="3289"/>
                  <a:pt x="16173" y="3208"/>
                </a:cubicBezTo>
                <a:cubicBezTo>
                  <a:pt x="16090" y="3110"/>
                  <a:pt x="16037" y="2997"/>
                  <a:pt x="15941" y="2910"/>
                </a:cubicBezTo>
                <a:cubicBezTo>
                  <a:pt x="15856" y="2833"/>
                  <a:pt x="15763" y="2743"/>
                  <a:pt x="15677" y="2679"/>
                </a:cubicBezTo>
                <a:cubicBezTo>
                  <a:pt x="15610" y="2629"/>
                  <a:pt x="15584" y="2611"/>
                  <a:pt x="15511" y="2580"/>
                </a:cubicBezTo>
                <a:cubicBezTo>
                  <a:pt x="15414" y="2539"/>
                  <a:pt x="15286" y="2504"/>
                  <a:pt x="15180" y="2480"/>
                </a:cubicBezTo>
                <a:cubicBezTo>
                  <a:pt x="14852" y="2406"/>
                  <a:pt x="14453" y="2337"/>
                  <a:pt x="14122" y="2315"/>
                </a:cubicBezTo>
                <a:cubicBezTo>
                  <a:pt x="13292" y="2259"/>
                  <a:pt x="12467" y="2352"/>
                  <a:pt x="11642" y="2249"/>
                </a:cubicBezTo>
                <a:cubicBezTo>
                  <a:pt x="11424" y="2222"/>
                  <a:pt x="11201" y="2219"/>
                  <a:pt x="10980" y="2216"/>
                </a:cubicBezTo>
                <a:cubicBezTo>
                  <a:pt x="10237" y="2207"/>
                  <a:pt x="9459" y="2171"/>
                  <a:pt x="8731" y="2249"/>
                </a:cubicBezTo>
                <a:cubicBezTo>
                  <a:pt x="8574" y="2266"/>
                  <a:pt x="8390" y="2279"/>
                  <a:pt x="8235" y="2315"/>
                </a:cubicBezTo>
                <a:cubicBezTo>
                  <a:pt x="8079" y="2351"/>
                  <a:pt x="7923" y="2410"/>
                  <a:pt x="7772" y="2447"/>
                </a:cubicBezTo>
                <a:cubicBezTo>
                  <a:pt x="7444" y="2526"/>
                  <a:pt x="7112" y="2562"/>
                  <a:pt x="6780" y="2613"/>
                </a:cubicBezTo>
                <a:cubicBezTo>
                  <a:pt x="6421" y="2668"/>
                  <a:pt x="6033" y="2707"/>
                  <a:pt x="5689" y="2811"/>
                </a:cubicBezTo>
                <a:cubicBezTo>
                  <a:pt x="5609" y="2835"/>
                  <a:pt x="5599" y="2846"/>
                  <a:pt x="5556" y="2877"/>
                </a:cubicBezTo>
                <a:cubicBezTo>
                  <a:pt x="5516" y="2906"/>
                  <a:pt x="5521" y="2941"/>
                  <a:pt x="5490" y="2977"/>
                </a:cubicBezTo>
                <a:cubicBezTo>
                  <a:pt x="5449" y="3024"/>
                  <a:pt x="5445" y="3037"/>
                  <a:pt x="5424" y="3076"/>
                </a:cubicBezTo>
                <a:cubicBezTo>
                  <a:pt x="5383" y="3153"/>
                  <a:pt x="5366" y="3234"/>
                  <a:pt x="5325" y="3307"/>
                </a:cubicBezTo>
                <a:cubicBezTo>
                  <a:pt x="5314" y="3318"/>
                  <a:pt x="5303" y="3329"/>
                  <a:pt x="5292" y="3340"/>
                </a:cubicBezTo>
                <a:cubicBezTo>
                  <a:pt x="5274" y="3279"/>
                  <a:pt x="5281" y="3201"/>
                  <a:pt x="5259" y="3142"/>
                </a:cubicBezTo>
                <a:cubicBezTo>
                  <a:pt x="5229" y="3060"/>
                  <a:pt x="5183" y="2998"/>
                  <a:pt x="5159" y="2910"/>
                </a:cubicBezTo>
                <a:cubicBezTo>
                  <a:pt x="5159" y="2899"/>
                  <a:pt x="5159" y="2888"/>
                  <a:pt x="5159" y="2877"/>
                </a:cubicBezTo>
                <a:cubicBezTo>
                  <a:pt x="5167" y="2932"/>
                  <a:pt x="5108" y="2958"/>
                  <a:pt x="5126" y="3010"/>
                </a:cubicBezTo>
                <a:cubicBezTo>
                  <a:pt x="5147" y="3070"/>
                  <a:pt x="5194" y="3155"/>
                  <a:pt x="5226" y="3208"/>
                </a:cubicBezTo>
                <a:cubicBezTo>
                  <a:pt x="5262" y="3268"/>
                  <a:pt x="5308" y="3322"/>
                  <a:pt x="5358" y="3373"/>
                </a:cubicBezTo>
                <a:cubicBezTo>
                  <a:pt x="5394" y="3410"/>
                  <a:pt x="5433" y="3506"/>
                  <a:pt x="5490" y="3506"/>
                </a:cubicBezTo>
                <a:cubicBezTo>
                  <a:pt x="5570" y="3506"/>
                  <a:pt x="5558" y="3465"/>
                  <a:pt x="5622" y="3440"/>
                </a:cubicBezTo>
                <a:cubicBezTo>
                  <a:pt x="5682" y="3417"/>
                  <a:pt x="5761" y="3297"/>
                  <a:pt x="5788" y="3274"/>
                </a:cubicBezTo>
                <a:cubicBezTo>
                  <a:pt x="5830" y="3238"/>
                  <a:pt x="5865" y="3197"/>
                  <a:pt x="5887" y="3175"/>
                </a:cubicBezTo>
              </a:path>
              <a:path w="11378" h="3011">
                <a:moveTo>
                  <a:pt x="7045" y="3605"/>
                </a:moveTo>
                <a:cubicBezTo>
                  <a:pt x="7045" y="3594"/>
                  <a:pt x="7045" y="3583"/>
                  <a:pt x="7045" y="3572"/>
                </a:cubicBezTo>
                <a:cubicBezTo>
                  <a:pt x="6968" y="3594"/>
                  <a:pt x="7010" y="3612"/>
                  <a:pt x="6945" y="3638"/>
                </a:cubicBezTo>
                <a:cubicBezTo>
                  <a:pt x="6887" y="3661"/>
                  <a:pt x="6866" y="3637"/>
                  <a:pt x="6813" y="3671"/>
                </a:cubicBezTo>
                <a:cubicBezTo>
                  <a:pt x="6753" y="3710"/>
                  <a:pt x="6741" y="3714"/>
                  <a:pt x="6681" y="3737"/>
                </a:cubicBezTo>
                <a:cubicBezTo>
                  <a:pt x="6616" y="3762"/>
                  <a:pt x="6573" y="3787"/>
                  <a:pt x="6515" y="3836"/>
                </a:cubicBezTo>
                <a:cubicBezTo>
                  <a:pt x="6485" y="3862"/>
                  <a:pt x="6463" y="3868"/>
                  <a:pt x="6416" y="3903"/>
                </a:cubicBezTo>
                <a:cubicBezTo>
                  <a:pt x="6402" y="3914"/>
                  <a:pt x="6367" y="3969"/>
                  <a:pt x="6350" y="4002"/>
                </a:cubicBezTo>
                <a:cubicBezTo>
                  <a:pt x="6332" y="4037"/>
                  <a:pt x="6305" y="4107"/>
                  <a:pt x="6284" y="4134"/>
                </a:cubicBezTo>
                <a:cubicBezTo>
                  <a:pt x="6252" y="4175"/>
                  <a:pt x="6239" y="4203"/>
                  <a:pt x="6218" y="4266"/>
                </a:cubicBezTo>
                <a:cubicBezTo>
                  <a:pt x="6184" y="4369"/>
                  <a:pt x="6163" y="4303"/>
                  <a:pt x="6152" y="4399"/>
                </a:cubicBezTo>
                <a:cubicBezTo>
                  <a:pt x="6139" y="4518"/>
                  <a:pt x="6141" y="4664"/>
                  <a:pt x="6185" y="4763"/>
                </a:cubicBezTo>
                <a:cubicBezTo>
                  <a:pt x="6205" y="4808"/>
                  <a:pt x="6241" y="4862"/>
                  <a:pt x="6284" y="4895"/>
                </a:cubicBezTo>
                <a:cubicBezTo>
                  <a:pt x="6340" y="4938"/>
                  <a:pt x="6367" y="5036"/>
                  <a:pt x="6416" y="5060"/>
                </a:cubicBezTo>
                <a:cubicBezTo>
                  <a:pt x="6463" y="5084"/>
                  <a:pt x="6532" y="5102"/>
                  <a:pt x="6582" y="5126"/>
                </a:cubicBezTo>
                <a:cubicBezTo>
                  <a:pt x="6648" y="5157"/>
                  <a:pt x="6755" y="5184"/>
                  <a:pt x="6813" y="5192"/>
                </a:cubicBezTo>
                <a:cubicBezTo>
                  <a:pt x="6905" y="5204"/>
                  <a:pt x="6991" y="5212"/>
                  <a:pt x="7078" y="5226"/>
                </a:cubicBezTo>
                <a:cubicBezTo>
                  <a:pt x="7176" y="5242"/>
                  <a:pt x="7324" y="5240"/>
                  <a:pt x="7408" y="5192"/>
                </a:cubicBezTo>
                <a:cubicBezTo>
                  <a:pt x="7424" y="5183"/>
                  <a:pt x="7493" y="5137"/>
                  <a:pt x="7508" y="5126"/>
                </a:cubicBezTo>
                <a:cubicBezTo>
                  <a:pt x="7541" y="5101"/>
                  <a:pt x="7568" y="5118"/>
                  <a:pt x="7607" y="5093"/>
                </a:cubicBezTo>
                <a:cubicBezTo>
                  <a:pt x="7671" y="5052"/>
                  <a:pt x="7696" y="4984"/>
                  <a:pt x="7739" y="4928"/>
                </a:cubicBezTo>
                <a:cubicBezTo>
                  <a:pt x="7756" y="4906"/>
                  <a:pt x="7781" y="4875"/>
                  <a:pt x="7805" y="4829"/>
                </a:cubicBezTo>
                <a:cubicBezTo>
                  <a:pt x="7828" y="4786"/>
                  <a:pt x="7891" y="4703"/>
                  <a:pt x="7904" y="4663"/>
                </a:cubicBezTo>
                <a:cubicBezTo>
                  <a:pt x="7940" y="4555"/>
                  <a:pt x="7912" y="4251"/>
                  <a:pt x="7871" y="4200"/>
                </a:cubicBezTo>
                <a:cubicBezTo>
                  <a:pt x="7842" y="4164"/>
                  <a:pt x="7862" y="4149"/>
                  <a:pt x="7838" y="4101"/>
                </a:cubicBezTo>
                <a:cubicBezTo>
                  <a:pt x="7807" y="4039"/>
                  <a:pt x="7744" y="3993"/>
                  <a:pt x="7706" y="3936"/>
                </a:cubicBezTo>
                <a:cubicBezTo>
                  <a:pt x="7683" y="3902"/>
                  <a:pt x="7657" y="3848"/>
                  <a:pt x="7640" y="3836"/>
                </a:cubicBezTo>
                <a:cubicBezTo>
                  <a:pt x="7601" y="3808"/>
                  <a:pt x="7588" y="3782"/>
                  <a:pt x="7541" y="3770"/>
                </a:cubicBezTo>
                <a:cubicBezTo>
                  <a:pt x="7487" y="3756"/>
                  <a:pt x="7462" y="3748"/>
                  <a:pt x="7408" y="3737"/>
                </a:cubicBezTo>
                <a:cubicBezTo>
                  <a:pt x="7343" y="3724"/>
                  <a:pt x="7332" y="3690"/>
                  <a:pt x="7276" y="3671"/>
                </a:cubicBezTo>
                <a:cubicBezTo>
                  <a:pt x="7213" y="3650"/>
                  <a:pt x="7214" y="3668"/>
                  <a:pt x="7177" y="3638"/>
                </a:cubicBezTo>
                <a:cubicBezTo>
                  <a:pt x="7156" y="3621"/>
                  <a:pt x="7130" y="3624"/>
                  <a:pt x="7111" y="3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17"/>
          <p:cNvSpPr/>
          <p:nvPr/>
        </p:nvSpPr>
        <p:spPr>
          <a:xfrm>
            <a:off x="2333520" y="1941480"/>
            <a:ext cx="441360" cy="1916280"/>
          </a:xfrm>
          <a:custGeom>
            <a:avLst/>
            <a:gdLst/>
            <a:ahLst/>
            <a:rect l="l" t="t" r="r" b="b"/>
            <a:pathLst>
              <a:path w="1225" h="5326">
                <a:moveTo>
                  <a:pt x="7144" y="5391"/>
                </a:moveTo>
                <a:cubicBezTo>
                  <a:pt x="7144" y="5647"/>
                  <a:pt x="7086" y="5867"/>
                  <a:pt x="7045" y="6118"/>
                </a:cubicBezTo>
                <a:cubicBezTo>
                  <a:pt x="7005" y="6363"/>
                  <a:pt x="6964" y="6575"/>
                  <a:pt x="6912" y="6813"/>
                </a:cubicBezTo>
                <a:cubicBezTo>
                  <a:pt x="6860" y="7052"/>
                  <a:pt x="6825" y="7300"/>
                  <a:pt x="6780" y="7541"/>
                </a:cubicBezTo>
                <a:cubicBezTo>
                  <a:pt x="6735" y="7785"/>
                  <a:pt x="6732" y="8030"/>
                  <a:pt x="6681" y="8268"/>
                </a:cubicBezTo>
                <a:cubicBezTo>
                  <a:pt x="6639" y="8464"/>
                  <a:pt x="6597" y="8663"/>
                  <a:pt x="6582" y="8864"/>
                </a:cubicBezTo>
                <a:cubicBezTo>
                  <a:pt x="6570" y="9020"/>
                  <a:pt x="6544" y="9175"/>
                  <a:pt x="6515" y="9327"/>
                </a:cubicBezTo>
                <a:cubicBezTo>
                  <a:pt x="6498" y="9417"/>
                  <a:pt x="6482" y="9516"/>
                  <a:pt x="6482" y="9624"/>
                </a:cubicBezTo>
                <a:cubicBezTo>
                  <a:pt x="6482" y="9734"/>
                  <a:pt x="6482" y="9845"/>
                  <a:pt x="6482" y="9955"/>
                </a:cubicBezTo>
                <a:cubicBezTo>
                  <a:pt x="6824" y="9955"/>
                  <a:pt x="7166" y="9955"/>
                  <a:pt x="7508" y="9955"/>
                </a:cubicBezTo>
                <a:cubicBezTo>
                  <a:pt x="7471" y="9900"/>
                  <a:pt x="7497" y="9914"/>
                  <a:pt x="7441" y="9856"/>
                </a:cubicBezTo>
                <a:cubicBezTo>
                  <a:pt x="7372" y="9784"/>
                  <a:pt x="7303" y="9730"/>
                  <a:pt x="7243" y="9657"/>
                </a:cubicBezTo>
                <a:cubicBezTo>
                  <a:pt x="7217" y="9625"/>
                  <a:pt x="7195" y="9582"/>
                  <a:pt x="7177" y="9558"/>
                </a:cubicBezTo>
                <a:cubicBezTo>
                  <a:pt x="7230" y="9621"/>
                  <a:pt x="7222" y="9628"/>
                  <a:pt x="7276" y="9690"/>
                </a:cubicBezTo>
                <a:cubicBezTo>
                  <a:pt x="7325" y="9746"/>
                  <a:pt x="7370" y="9790"/>
                  <a:pt x="7408" y="9823"/>
                </a:cubicBezTo>
                <a:cubicBezTo>
                  <a:pt x="7426" y="9839"/>
                  <a:pt x="7484" y="9895"/>
                  <a:pt x="7508" y="9922"/>
                </a:cubicBezTo>
                <a:cubicBezTo>
                  <a:pt x="7553" y="9973"/>
                  <a:pt x="7593" y="10027"/>
                  <a:pt x="7640" y="10087"/>
                </a:cubicBezTo>
                <a:cubicBezTo>
                  <a:pt x="7640" y="10140"/>
                  <a:pt x="7654" y="10165"/>
                  <a:pt x="7706" y="10186"/>
                </a:cubicBezTo>
                <a:cubicBezTo>
                  <a:pt x="7653" y="10215"/>
                  <a:pt x="7629" y="10195"/>
                  <a:pt x="7574" y="10253"/>
                </a:cubicBezTo>
                <a:cubicBezTo>
                  <a:pt x="7490" y="10342"/>
                  <a:pt x="7415" y="10441"/>
                  <a:pt x="7342" y="10517"/>
                </a:cubicBezTo>
                <a:cubicBezTo>
                  <a:pt x="7309" y="10552"/>
                  <a:pt x="7126" y="10690"/>
                  <a:pt x="7111" y="10716"/>
                </a:cubicBezTo>
                <a:cubicBezTo>
                  <a:pt x="7149" y="10716"/>
                  <a:pt x="7163" y="10713"/>
                  <a:pt x="7177" y="10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18"/>
          <p:cNvSpPr/>
          <p:nvPr/>
        </p:nvSpPr>
        <p:spPr>
          <a:xfrm>
            <a:off x="762120" y="3463920"/>
            <a:ext cx="250560" cy="941400"/>
          </a:xfrm>
          <a:custGeom>
            <a:avLst/>
            <a:gdLst/>
            <a:ahLst/>
            <a:rect l="l" t="t" r="r" b="b"/>
            <a:pathLst>
              <a:path w="695" h="2614">
                <a:moveTo>
                  <a:pt x="2117" y="9624"/>
                </a:moveTo>
                <a:cubicBezTo>
                  <a:pt x="2121" y="9664"/>
                  <a:pt x="2130" y="9766"/>
                  <a:pt x="2150" y="9790"/>
                </a:cubicBezTo>
                <a:cubicBezTo>
                  <a:pt x="2214" y="9866"/>
                  <a:pt x="2206" y="9886"/>
                  <a:pt x="2249" y="9988"/>
                </a:cubicBezTo>
                <a:cubicBezTo>
                  <a:pt x="2283" y="10070"/>
                  <a:pt x="2314" y="10181"/>
                  <a:pt x="2348" y="10253"/>
                </a:cubicBezTo>
                <a:cubicBezTo>
                  <a:pt x="2411" y="10386"/>
                  <a:pt x="2390" y="10414"/>
                  <a:pt x="2414" y="10550"/>
                </a:cubicBezTo>
                <a:cubicBezTo>
                  <a:pt x="2431" y="10646"/>
                  <a:pt x="2492" y="10696"/>
                  <a:pt x="2514" y="10782"/>
                </a:cubicBezTo>
                <a:cubicBezTo>
                  <a:pt x="2539" y="10882"/>
                  <a:pt x="2582" y="10949"/>
                  <a:pt x="2613" y="11046"/>
                </a:cubicBezTo>
                <a:cubicBezTo>
                  <a:pt x="2636" y="11118"/>
                  <a:pt x="2634" y="11238"/>
                  <a:pt x="2646" y="11311"/>
                </a:cubicBezTo>
                <a:cubicBezTo>
                  <a:pt x="2658" y="11384"/>
                  <a:pt x="2668" y="11445"/>
                  <a:pt x="2679" y="11509"/>
                </a:cubicBezTo>
                <a:cubicBezTo>
                  <a:pt x="2712" y="11708"/>
                  <a:pt x="2679" y="11935"/>
                  <a:pt x="2679" y="12138"/>
                </a:cubicBezTo>
                <a:cubicBezTo>
                  <a:pt x="2679" y="12072"/>
                  <a:pt x="2679" y="12071"/>
                  <a:pt x="2679" y="12005"/>
                </a:cubicBezTo>
                <a:cubicBezTo>
                  <a:pt x="2679" y="11914"/>
                  <a:pt x="2666" y="11858"/>
                  <a:pt x="2646" y="11774"/>
                </a:cubicBezTo>
                <a:cubicBezTo>
                  <a:pt x="2619" y="11663"/>
                  <a:pt x="2593" y="11598"/>
                  <a:pt x="2514" y="11509"/>
                </a:cubicBezTo>
                <a:cubicBezTo>
                  <a:pt x="2493" y="11485"/>
                  <a:pt x="2415" y="11413"/>
                  <a:pt x="2414" y="11410"/>
                </a:cubicBezTo>
                <a:cubicBezTo>
                  <a:pt x="2392" y="11345"/>
                  <a:pt x="2419" y="11382"/>
                  <a:pt x="2381" y="11344"/>
                </a:cubicBezTo>
                <a:cubicBezTo>
                  <a:pt x="2381" y="11483"/>
                  <a:pt x="2391" y="11557"/>
                  <a:pt x="2447" y="11675"/>
                </a:cubicBezTo>
                <a:cubicBezTo>
                  <a:pt x="2501" y="11789"/>
                  <a:pt x="2553" y="11919"/>
                  <a:pt x="2613" y="12039"/>
                </a:cubicBezTo>
                <a:cubicBezTo>
                  <a:pt x="2638" y="12089"/>
                  <a:pt x="2686" y="12207"/>
                  <a:pt x="2712" y="12237"/>
                </a:cubicBezTo>
                <a:cubicBezTo>
                  <a:pt x="2723" y="12237"/>
                  <a:pt x="2734" y="12237"/>
                  <a:pt x="2745" y="12237"/>
                </a:cubicBezTo>
                <a:cubicBezTo>
                  <a:pt x="2763" y="12207"/>
                  <a:pt x="2762" y="12197"/>
                  <a:pt x="2778" y="12138"/>
                </a:cubicBezTo>
                <a:cubicBezTo>
                  <a:pt x="2801" y="12055"/>
                  <a:pt x="2811" y="11975"/>
                  <a:pt x="2811" y="11873"/>
                </a:cubicBezTo>
                <a:cubicBezTo>
                  <a:pt x="2811" y="11697"/>
                  <a:pt x="2811" y="11520"/>
                  <a:pt x="2811" y="11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19"/>
          <p:cNvSpPr/>
          <p:nvPr/>
        </p:nvSpPr>
        <p:spPr>
          <a:xfrm>
            <a:off x="1690560" y="3821040"/>
            <a:ext cx="738360" cy="478080"/>
          </a:xfrm>
          <a:custGeom>
            <a:avLst/>
            <a:gdLst/>
            <a:ahLst/>
            <a:rect l="l" t="t" r="r" b="b"/>
            <a:pathLst>
              <a:path w="2052" h="1324">
                <a:moveTo>
                  <a:pt x="4961" y="11542"/>
                </a:moveTo>
                <a:cubicBezTo>
                  <a:pt x="5209" y="11542"/>
                  <a:pt x="5444" y="11535"/>
                  <a:pt x="5689" y="11509"/>
                </a:cubicBezTo>
                <a:cubicBezTo>
                  <a:pt x="5828" y="11494"/>
                  <a:pt x="5918" y="11477"/>
                  <a:pt x="6052" y="11443"/>
                </a:cubicBezTo>
                <a:cubicBezTo>
                  <a:pt x="6181" y="11411"/>
                  <a:pt x="6316" y="11448"/>
                  <a:pt x="6449" y="11410"/>
                </a:cubicBezTo>
                <a:cubicBezTo>
                  <a:pt x="6489" y="11399"/>
                  <a:pt x="6731" y="11379"/>
                  <a:pt x="6747" y="11344"/>
                </a:cubicBezTo>
                <a:cubicBezTo>
                  <a:pt x="6747" y="11284"/>
                  <a:pt x="6752" y="11267"/>
                  <a:pt x="6714" y="11245"/>
                </a:cubicBezTo>
              </a:path>
              <a:path w="2052" h="1324">
                <a:moveTo>
                  <a:pt x="4696" y="10616"/>
                </a:moveTo>
                <a:cubicBezTo>
                  <a:pt x="4696" y="10714"/>
                  <a:pt x="4713" y="10790"/>
                  <a:pt x="4729" y="10881"/>
                </a:cubicBezTo>
                <a:cubicBezTo>
                  <a:pt x="4744" y="10963"/>
                  <a:pt x="4765" y="11022"/>
                  <a:pt x="4796" y="11079"/>
                </a:cubicBezTo>
                <a:cubicBezTo>
                  <a:pt x="4827" y="11137"/>
                  <a:pt x="4828" y="11221"/>
                  <a:pt x="4862" y="11278"/>
                </a:cubicBezTo>
                <a:cubicBezTo>
                  <a:pt x="4898" y="11338"/>
                  <a:pt x="4906" y="11349"/>
                  <a:pt x="4928" y="11410"/>
                </a:cubicBezTo>
                <a:cubicBezTo>
                  <a:pt x="4940" y="11444"/>
                  <a:pt x="4959" y="11558"/>
                  <a:pt x="4994" y="11576"/>
                </a:cubicBezTo>
                <a:cubicBezTo>
                  <a:pt x="5021" y="11590"/>
                  <a:pt x="5045" y="11662"/>
                  <a:pt x="5060" y="11708"/>
                </a:cubicBezTo>
                <a:cubicBezTo>
                  <a:pt x="5085" y="11784"/>
                  <a:pt x="5092" y="11740"/>
                  <a:pt x="5126" y="11807"/>
                </a:cubicBezTo>
                <a:cubicBezTo>
                  <a:pt x="5143" y="11840"/>
                  <a:pt x="5156" y="11881"/>
                  <a:pt x="5159" y="11906"/>
                </a:cubicBezTo>
                <a:cubicBezTo>
                  <a:pt x="5159" y="11917"/>
                  <a:pt x="5159" y="11928"/>
                  <a:pt x="5159" y="11939"/>
                </a:cubicBezTo>
                <a:cubicBezTo>
                  <a:pt x="5159" y="11855"/>
                  <a:pt x="5117" y="11813"/>
                  <a:pt x="5060" y="11741"/>
                </a:cubicBezTo>
                <a:cubicBezTo>
                  <a:pt x="4973" y="11632"/>
                  <a:pt x="4942" y="11593"/>
                  <a:pt x="4862" y="11476"/>
                </a:cubicBezTo>
                <a:cubicBezTo>
                  <a:pt x="4832" y="11432"/>
                  <a:pt x="4788" y="11381"/>
                  <a:pt x="4763" y="11344"/>
                </a:cubicBezTo>
                <a:cubicBezTo>
                  <a:pt x="4720" y="11281"/>
                  <a:pt x="4716" y="11339"/>
                  <a:pt x="4696" y="11278"/>
                </a:cubicBezTo>
                <a:cubicBezTo>
                  <a:pt x="4745" y="11363"/>
                  <a:pt x="4809" y="11428"/>
                  <a:pt x="4862" y="11509"/>
                </a:cubicBezTo>
                <a:cubicBezTo>
                  <a:pt x="4943" y="11631"/>
                  <a:pt x="5030" y="11654"/>
                  <a:pt x="5126" y="11741"/>
                </a:cubicBezTo>
                <a:cubicBezTo>
                  <a:pt x="5169" y="11780"/>
                  <a:pt x="5140" y="11807"/>
                  <a:pt x="5226" y="11807"/>
                </a:cubicBezTo>
                <a:cubicBezTo>
                  <a:pt x="5226" y="11745"/>
                  <a:pt x="5249" y="11723"/>
                  <a:pt x="5259" y="11675"/>
                </a:cubicBezTo>
                <a:cubicBezTo>
                  <a:pt x="5279" y="11582"/>
                  <a:pt x="5292" y="11509"/>
                  <a:pt x="5292" y="11410"/>
                </a:cubicBezTo>
                <a:cubicBezTo>
                  <a:pt x="5292" y="11366"/>
                  <a:pt x="5292" y="11322"/>
                  <a:pt x="5292" y="112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20"/>
          <p:cNvSpPr/>
          <p:nvPr/>
        </p:nvSpPr>
        <p:spPr>
          <a:xfrm>
            <a:off x="1595520" y="4179960"/>
            <a:ext cx="1155600" cy="1439640"/>
          </a:xfrm>
          <a:custGeom>
            <a:avLst/>
            <a:gdLst/>
            <a:ahLst/>
            <a:rect l="l" t="t" r="r" b="b"/>
            <a:pathLst>
              <a:path w="3209" h="4002">
                <a:moveTo>
                  <a:pt x="4829" y="11609"/>
                </a:moveTo>
                <a:cubicBezTo>
                  <a:pt x="4816" y="11668"/>
                  <a:pt x="4800" y="11665"/>
                  <a:pt x="4796" y="11708"/>
                </a:cubicBezTo>
                <a:cubicBezTo>
                  <a:pt x="4779" y="11900"/>
                  <a:pt x="4799" y="12086"/>
                  <a:pt x="4763" y="12270"/>
                </a:cubicBezTo>
                <a:cubicBezTo>
                  <a:pt x="4745" y="12365"/>
                  <a:pt x="4751" y="12476"/>
                  <a:pt x="4729" y="12568"/>
                </a:cubicBezTo>
                <a:cubicBezTo>
                  <a:pt x="4705" y="12669"/>
                  <a:pt x="4684" y="12766"/>
                  <a:pt x="4663" y="12865"/>
                </a:cubicBezTo>
                <a:cubicBezTo>
                  <a:pt x="4639" y="12981"/>
                  <a:pt x="4607" y="13016"/>
                  <a:pt x="4597" y="13130"/>
                </a:cubicBezTo>
                <a:cubicBezTo>
                  <a:pt x="4587" y="13249"/>
                  <a:pt x="4583" y="13345"/>
                  <a:pt x="4564" y="13461"/>
                </a:cubicBezTo>
                <a:cubicBezTo>
                  <a:pt x="4547" y="13562"/>
                  <a:pt x="4518" y="13661"/>
                  <a:pt x="4498" y="13758"/>
                </a:cubicBezTo>
                <a:cubicBezTo>
                  <a:pt x="4477" y="13858"/>
                  <a:pt x="4480" y="13956"/>
                  <a:pt x="4465" y="14056"/>
                </a:cubicBezTo>
                <a:cubicBezTo>
                  <a:pt x="4449" y="14165"/>
                  <a:pt x="4435" y="14269"/>
                  <a:pt x="4432" y="14387"/>
                </a:cubicBezTo>
                <a:cubicBezTo>
                  <a:pt x="4427" y="14581"/>
                  <a:pt x="4327" y="15241"/>
                  <a:pt x="4465" y="15379"/>
                </a:cubicBezTo>
                <a:cubicBezTo>
                  <a:pt x="4585" y="15500"/>
                  <a:pt x="4838" y="15514"/>
                  <a:pt x="4994" y="15544"/>
                </a:cubicBezTo>
                <a:cubicBezTo>
                  <a:pt x="5477" y="15638"/>
                  <a:pt x="5958" y="15610"/>
                  <a:pt x="6449" y="15610"/>
                </a:cubicBezTo>
                <a:cubicBezTo>
                  <a:pt x="6846" y="15610"/>
                  <a:pt x="7243" y="15610"/>
                  <a:pt x="7640" y="15610"/>
                </a:cubicBezTo>
                <a:cubicBezTo>
                  <a:pt x="7624" y="15462"/>
                  <a:pt x="7626" y="15394"/>
                  <a:pt x="7574" y="15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9920" y="1540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372960" y="1138320"/>
          <a:ext cx="259884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1138320"/>
                    <a:ext cx="259884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5"/>
          <p:cNvGraphicFramePr/>
          <p:nvPr/>
        </p:nvGraphicFramePr>
        <p:xfrm>
          <a:off x="4495680" y="2286000"/>
          <a:ext cx="164952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286000"/>
                    <a:ext cx="16495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6"/>
          <p:cNvGraphicFramePr/>
          <p:nvPr/>
        </p:nvGraphicFramePr>
        <p:xfrm>
          <a:off x="4648320" y="3048120"/>
          <a:ext cx="1498320" cy="13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048120"/>
                    <a:ext cx="14983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7"/>
          <p:cNvGraphicFramePr/>
          <p:nvPr/>
        </p:nvGraphicFramePr>
        <p:xfrm>
          <a:off x="514440" y="2641680"/>
          <a:ext cx="245736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440" y="2641680"/>
                    <a:ext cx="245736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8"/>
          <p:cNvGraphicFramePr/>
          <p:nvPr/>
        </p:nvGraphicFramePr>
        <p:xfrm>
          <a:off x="571680" y="4572000"/>
          <a:ext cx="2323800" cy="13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680" y="4572000"/>
                    <a:ext cx="23238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9"/>
          <p:cNvGraphicFramePr/>
          <p:nvPr/>
        </p:nvGraphicFramePr>
        <p:xfrm>
          <a:off x="457200" y="6400800"/>
          <a:ext cx="2590920" cy="133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6400800"/>
                    <a:ext cx="25909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"/>
          <p:cNvGraphicFramePr/>
          <p:nvPr/>
        </p:nvGraphicFramePr>
        <p:xfrm>
          <a:off x="4114800" y="1219320"/>
          <a:ext cx="2286000" cy="603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14800" y="1219320"/>
                    <a:ext cx="22860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1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69200" y="154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446040" y="1138320"/>
          <a:ext cx="18511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1138320"/>
                    <a:ext cx="18511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4"/>
          <p:cNvGraphicFramePr/>
          <p:nvPr/>
        </p:nvGraphicFramePr>
        <p:xfrm>
          <a:off x="4419720" y="1219320"/>
          <a:ext cx="1774800" cy="69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219320"/>
                    <a:ext cx="17748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5"/>
          <p:cNvGraphicFramePr/>
          <p:nvPr/>
        </p:nvGraphicFramePr>
        <p:xfrm>
          <a:off x="4343400" y="2209680"/>
          <a:ext cx="1917720" cy="6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2209680"/>
                    <a:ext cx="191772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4038480" y="3048120"/>
          <a:ext cx="221940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048120"/>
                    <a:ext cx="22194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AutoShape 7"/>
          <p:cNvSpPr/>
          <p:nvPr/>
        </p:nvSpPr>
        <p:spPr>
          <a:xfrm rot="16200000">
            <a:off x="5676840" y="3771720"/>
            <a:ext cx="304560" cy="685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685800"/>
              <a:gd name="textAreaBottom" fmla="*/ 65412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0"/>
                  <a:pt x="10800" y="3200"/>
                </a:cubicBezTo>
                <a:lnTo>
                  <a:pt x="10800" y="7937"/>
                </a:lnTo>
                <a:cubicBezTo>
                  <a:pt x="10800" y="9537"/>
                  <a:pt x="5400" y="11137"/>
                  <a:pt x="0" y="11137"/>
                </a:cubicBezTo>
                <a:cubicBezTo>
                  <a:pt x="5400" y="11137"/>
                  <a:pt x="10800" y="12737"/>
                  <a:pt x="10800" y="14337"/>
                </a:cubicBezTo>
                <a:lnTo>
                  <a:pt x="10800" y="18400"/>
                </a:lnTo>
                <a:cubicBezTo>
                  <a:pt x="10800" y="200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0"/>
          <p:cNvGrpSpPr/>
          <p:nvPr/>
        </p:nvGrpSpPr>
        <p:grpSpPr>
          <a:xfrm>
            <a:off x="3429000" y="4572000"/>
            <a:ext cx="3143160" cy="1734480"/>
            <a:chOff x="3429000" y="4572000"/>
            <a:chExt cx="3143160" cy="1734480"/>
          </a:xfrm>
        </p:grpSpPr>
        <p:sp>
          <p:nvSpPr>
            <p:cNvPr id="159" name="Text Box 8"/>
            <p:cNvSpPr/>
            <p:nvPr/>
          </p:nvSpPr>
          <p:spPr>
            <a:xfrm>
              <a:off x="3429000" y="4749480"/>
              <a:ext cx="2571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e solve for             because we can find it in the integran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0" name="Object 9"/>
            <p:cNvGraphicFramePr/>
            <p:nvPr/>
          </p:nvGraphicFramePr>
          <p:xfrm>
            <a:off x="5257800" y="4572000"/>
            <a:ext cx="1314360" cy="689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1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57800" y="4572000"/>
                      <a:ext cx="1314360" cy="6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2" name="Object 11"/>
          <p:cNvGraphicFramePr/>
          <p:nvPr/>
        </p:nvGraphicFramePr>
        <p:xfrm>
          <a:off x="574560" y="2641680"/>
          <a:ext cx="2244960" cy="133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4560" y="2641680"/>
                    <a:ext cx="224496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2"/>
          <p:cNvGraphicFramePr/>
          <p:nvPr/>
        </p:nvGraphicFramePr>
        <p:xfrm>
          <a:off x="461880" y="4572000"/>
          <a:ext cx="2281320" cy="133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5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1880" y="4572000"/>
                    <a:ext cx="2281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3"/>
          <p:cNvGraphicFramePr/>
          <p:nvPr/>
        </p:nvGraphicFramePr>
        <p:xfrm>
          <a:off x="457200" y="6502320"/>
          <a:ext cx="2514600" cy="1338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7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" y="6502320"/>
                    <a:ext cx="251460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4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9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Ink 15"/>
          <p:cNvSpPr/>
          <p:nvPr/>
        </p:nvSpPr>
        <p:spPr>
          <a:xfrm>
            <a:off x="654120" y="1262160"/>
            <a:ext cx="1679400" cy="571320"/>
          </a:xfrm>
          <a:custGeom>
            <a:avLst/>
            <a:gdLst/>
            <a:ahLst/>
            <a:rect l="l" t="t" r="r" b="b"/>
            <a:pathLst>
              <a:path w="4664" h="1588">
                <a:moveTo>
                  <a:pt x="2117" y="3539"/>
                </a:moveTo>
                <a:cubicBezTo>
                  <a:pt x="2109" y="3593"/>
                  <a:pt x="2105" y="3625"/>
                  <a:pt x="2084" y="3671"/>
                </a:cubicBezTo>
                <a:cubicBezTo>
                  <a:pt x="2081" y="3678"/>
                  <a:pt x="2037" y="3772"/>
                  <a:pt x="2017" y="3803"/>
                </a:cubicBezTo>
                <a:cubicBezTo>
                  <a:pt x="1979" y="3864"/>
                  <a:pt x="1973" y="3874"/>
                  <a:pt x="1951" y="3936"/>
                </a:cubicBezTo>
                <a:cubicBezTo>
                  <a:pt x="1920" y="4024"/>
                  <a:pt x="1917" y="4011"/>
                  <a:pt x="1885" y="4101"/>
                </a:cubicBezTo>
                <a:cubicBezTo>
                  <a:pt x="1882" y="4109"/>
                  <a:pt x="1864" y="4189"/>
                  <a:pt x="1852" y="4233"/>
                </a:cubicBezTo>
                <a:cubicBezTo>
                  <a:pt x="1834" y="4299"/>
                  <a:pt x="1823" y="4321"/>
                  <a:pt x="1819" y="4399"/>
                </a:cubicBezTo>
                <a:cubicBezTo>
                  <a:pt x="1812" y="4523"/>
                  <a:pt x="1838" y="4690"/>
                  <a:pt x="1852" y="4763"/>
                </a:cubicBezTo>
                <a:cubicBezTo>
                  <a:pt x="1867" y="4842"/>
                  <a:pt x="1881" y="4816"/>
                  <a:pt x="1918" y="4862"/>
                </a:cubicBezTo>
                <a:cubicBezTo>
                  <a:pt x="1948" y="4900"/>
                  <a:pt x="2018" y="4975"/>
                  <a:pt x="2051" y="5027"/>
                </a:cubicBezTo>
                <a:cubicBezTo>
                  <a:pt x="2087" y="5083"/>
                  <a:pt x="2070" y="5089"/>
                  <a:pt x="2150" y="5093"/>
                </a:cubicBezTo>
                <a:cubicBezTo>
                  <a:pt x="2301" y="5100"/>
                  <a:pt x="2508" y="5121"/>
                  <a:pt x="2646" y="5060"/>
                </a:cubicBezTo>
                <a:cubicBezTo>
                  <a:pt x="2714" y="5030"/>
                  <a:pt x="2791" y="5004"/>
                  <a:pt x="2844" y="4961"/>
                </a:cubicBezTo>
                <a:cubicBezTo>
                  <a:pt x="2857" y="4950"/>
                  <a:pt x="2940" y="4872"/>
                  <a:pt x="2943" y="4862"/>
                </a:cubicBezTo>
                <a:cubicBezTo>
                  <a:pt x="2965" y="4785"/>
                  <a:pt x="2973" y="4807"/>
                  <a:pt x="2977" y="4729"/>
                </a:cubicBezTo>
                <a:cubicBezTo>
                  <a:pt x="2985" y="4597"/>
                  <a:pt x="2991" y="4453"/>
                  <a:pt x="2943" y="4333"/>
                </a:cubicBezTo>
                <a:cubicBezTo>
                  <a:pt x="2923" y="4284"/>
                  <a:pt x="2900" y="4213"/>
                  <a:pt x="2877" y="4167"/>
                </a:cubicBezTo>
                <a:cubicBezTo>
                  <a:pt x="2854" y="4120"/>
                  <a:pt x="2777" y="4044"/>
                  <a:pt x="2745" y="4002"/>
                </a:cubicBezTo>
                <a:cubicBezTo>
                  <a:pt x="2732" y="3985"/>
                  <a:pt x="2679" y="3936"/>
                  <a:pt x="2646" y="3903"/>
                </a:cubicBezTo>
                <a:cubicBezTo>
                  <a:pt x="2615" y="3872"/>
                  <a:pt x="2565" y="3794"/>
                  <a:pt x="2547" y="3770"/>
                </a:cubicBezTo>
                <a:cubicBezTo>
                  <a:pt x="2519" y="3732"/>
                  <a:pt x="2504" y="3695"/>
                  <a:pt x="2480" y="3671"/>
                </a:cubicBezTo>
                <a:cubicBezTo>
                  <a:pt x="2447" y="3671"/>
                  <a:pt x="2436" y="3671"/>
                  <a:pt x="2447" y="3638"/>
                </a:cubicBezTo>
              </a:path>
              <a:path w="4664" h="1588">
                <a:moveTo>
                  <a:pt x="5986" y="3506"/>
                </a:moveTo>
                <a:cubicBezTo>
                  <a:pt x="5959" y="3533"/>
                  <a:pt x="5900" y="3592"/>
                  <a:pt x="5854" y="3638"/>
                </a:cubicBezTo>
                <a:cubicBezTo>
                  <a:pt x="5797" y="3695"/>
                  <a:pt x="5760" y="3749"/>
                  <a:pt x="5722" y="3803"/>
                </a:cubicBezTo>
                <a:cubicBezTo>
                  <a:pt x="5676" y="3870"/>
                  <a:pt x="5680" y="3907"/>
                  <a:pt x="5655" y="3969"/>
                </a:cubicBezTo>
                <a:cubicBezTo>
                  <a:pt x="5632" y="4025"/>
                  <a:pt x="5625" y="4033"/>
                  <a:pt x="5622" y="4101"/>
                </a:cubicBezTo>
                <a:cubicBezTo>
                  <a:pt x="5615" y="4291"/>
                  <a:pt x="5563" y="4642"/>
                  <a:pt x="5655" y="4796"/>
                </a:cubicBezTo>
                <a:cubicBezTo>
                  <a:pt x="5677" y="4833"/>
                  <a:pt x="5704" y="4879"/>
                  <a:pt x="5722" y="4895"/>
                </a:cubicBezTo>
                <a:cubicBezTo>
                  <a:pt x="5751" y="4920"/>
                  <a:pt x="5775" y="4927"/>
                  <a:pt x="5821" y="4961"/>
                </a:cubicBezTo>
                <a:cubicBezTo>
                  <a:pt x="5863" y="4992"/>
                  <a:pt x="5903" y="5027"/>
                  <a:pt x="5986" y="5027"/>
                </a:cubicBezTo>
                <a:cubicBezTo>
                  <a:pt x="6038" y="5027"/>
                  <a:pt x="6112" y="5020"/>
                  <a:pt x="6152" y="4994"/>
                </a:cubicBezTo>
                <a:cubicBezTo>
                  <a:pt x="6207" y="4958"/>
                  <a:pt x="6294" y="4850"/>
                  <a:pt x="6350" y="4796"/>
                </a:cubicBezTo>
                <a:cubicBezTo>
                  <a:pt x="6411" y="4738"/>
                  <a:pt x="6378" y="4696"/>
                  <a:pt x="6416" y="4630"/>
                </a:cubicBezTo>
                <a:cubicBezTo>
                  <a:pt x="6438" y="4591"/>
                  <a:pt x="6470" y="4606"/>
                  <a:pt x="6482" y="4531"/>
                </a:cubicBezTo>
                <a:cubicBezTo>
                  <a:pt x="6506" y="4374"/>
                  <a:pt x="6489" y="4171"/>
                  <a:pt x="6449" y="4035"/>
                </a:cubicBezTo>
                <a:cubicBezTo>
                  <a:pt x="6427" y="3961"/>
                  <a:pt x="6380" y="3912"/>
                  <a:pt x="6350" y="3870"/>
                </a:cubicBezTo>
                <a:cubicBezTo>
                  <a:pt x="6323" y="3831"/>
                  <a:pt x="6228" y="3722"/>
                  <a:pt x="6218" y="3704"/>
                </a:cubicBezTo>
                <a:cubicBezTo>
                  <a:pt x="6191" y="3655"/>
                  <a:pt x="6202" y="3621"/>
                  <a:pt x="6152" y="3605"/>
                </a:cubicBezTo>
                <a:cubicBezTo>
                  <a:pt x="5621" y="3435"/>
                  <a:pt x="4891" y="3661"/>
                  <a:pt x="4333" y="3572"/>
                </a:cubicBezTo>
                <a:cubicBezTo>
                  <a:pt x="4223" y="3554"/>
                  <a:pt x="4108" y="3518"/>
                  <a:pt x="4002" y="3506"/>
                </a:cubicBezTo>
                <a:cubicBezTo>
                  <a:pt x="3531" y="3451"/>
                  <a:pt x="2900" y="3487"/>
                  <a:pt x="2480" y="3539"/>
                </a:cubicBezTo>
                <a:cubicBezTo>
                  <a:pt x="2417" y="3547"/>
                  <a:pt x="2408" y="3558"/>
                  <a:pt x="2381" y="3572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16"/>
          <p:cNvSpPr/>
          <p:nvPr/>
        </p:nvSpPr>
        <p:spPr>
          <a:xfrm>
            <a:off x="558720" y="2071800"/>
            <a:ext cx="25560" cy="12600"/>
          </a:xfrm>
          <a:custGeom>
            <a:avLst/>
            <a:gdLst/>
            <a:ahLst/>
            <a:rect l="l" t="t" r="r" b="b"/>
            <a:pathLst>
              <a:path w="68" h="34">
                <a:moveTo>
                  <a:pt x="1554" y="5788"/>
                </a:moveTo>
                <a:cubicBezTo>
                  <a:pt x="1609" y="5788"/>
                  <a:pt x="1571" y="5772"/>
                  <a:pt x="1621" y="5755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17"/>
          <p:cNvSpPr/>
          <p:nvPr/>
        </p:nvSpPr>
        <p:spPr>
          <a:xfrm>
            <a:off x="488880" y="2630520"/>
            <a:ext cx="2286000" cy="1346040"/>
          </a:xfrm>
          <a:custGeom>
            <a:avLst/>
            <a:gdLst/>
            <a:ahLst/>
            <a:rect l="l" t="t" r="r" b="b"/>
            <a:pathLst>
              <a:path w="6351" h="3738">
                <a:moveTo>
                  <a:pt x="2679" y="8830"/>
                </a:moveTo>
                <a:cubicBezTo>
                  <a:pt x="2693" y="8751"/>
                  <a:pt x="2698" y="8677"/>
                  <a:pt x="2712" y="8599"/>
                </a:cubicBezTo>
                <a:cubicBezTo>
                  <a:pt x="2724" y="8533"/>
                  <a:pt x="2739" y="8480"/>
                  <a:pt x="2745" y="8401"/>
                </a:cubicBezTo>
                <a:cubicBezTo>
                  <a:pt x="2762" y="8190"/>
                  <a:pt x="2742" y="7976"/>
                  <a:pt x="2712" y="7772"/>
                </a:cubicBezTo>
                <a:cubicBezTo>
                  <a:pt x="2698" y="7675"/>
                  <a:pt x="2677" y="7560"/>
                  <a:pt x="2646" y="7474"/>
                </a:cubicBezTo>
                <a:cubicBezTo>
                  <a:pt x="2642" y="7463"/>
                  <a:pt x="2582" y="7343"/>
                  <a:pt x="2580" y="7342"/>
                </a:cubicBezTo>
                <a:cubicBezTo>
                  <a:pt x="2517" y="7299"/>
                  <a:pt x="2488" y="7320"/>
                  <a:pt x="2414" y="7309"/>
                </a:cubicBezTo>
                <a:cubicBezTo>
                  <a:pt x="2283" y="7289"/>
                  <a:pt x="2096" y="7314"/>
                  <a:pt x="2017" y="7342"/>
                </a:cubicBezTo>
                <a:cubicBezTo>
                  <a:pt x="1965" y="7360"/>
                  <a:pt x="1931" y="7375"/>
                  <a:pt x="1885" y="7408"/>
                </a:cubicBezTo>
                <a:cubicBezTo>
                  <a:pt x="1854" y="7430"/>
                  <a:pt x="1831" y="7466"/>
                  <a:pt x="1786" y="7508"/>
                </a:cubicBezTo>
                <a:cubicBezTo>
                  <a:pt x="1741" y="7550"/>
                  <a:pt x="1647" y="7575"/>
                  <a:pt x="1621" y="7607"/>
                </a:cubicBezTo>
                <a:cubicBezTo>
                  <a:pt x="1583" y="7654"/>
                  <a:pt x="1554" y="7751"/>
                  <a:pt x="1521" y="7805"/>
                </a:cubicBezTo>
                <a:cubicBezTo>
                  <a:pt x="1472" y="7885"/>
                  <a:pt x="1457" y="7960"/>
                  <a:pt x="1422" y="8037"/>
                </a:cubicBezTo>
                <a:cubicBezTo>
                  <a:pt x="1355" y="8186"/>
                  <a:pt x="1359" y="8299"/>
                  <a:pt x="1356" y="8467"/>
                </a:cubicBezTo>
                <a:cubicBezTo>
                  <a:pt x="1350" y="8789"/>
                  <a:pt x="1369" y="9116"/>
                  <a:pt x="1389" y="9426"/>
                </a:cubicBezTo>
                <a:cubicBezTo>
                  <a:pt x="1396" y="9538"/>
                  <a:pt x="1392" y="9651"/>
                  <a:pt x="1422" y="9757"/>
                </a:cubicBezTo>
                <a:cubicBezTo>
                  <a:pt x="1443" y="9828"/>
                  <a:pt x="1471" y="9906"/>
                  <a:pt x="1488" y="9988"/>
                </a:cubicBezTo>
                <a:cubicBezTo>
                  <a:pt x="1505" y="10071"/>
                  <a:pt x="1537" y="10121"/>
                  <a:pt x="1554" y="10186"/>
                </a:cubicBezTo>
                <a:cubicBezTo>
                  <a:pt x="1576" y="10268"/>
                  <a:pt x="1588" y="10337"/>
                  <a:pt x="1621" y="10418"/>
                </a:cubicBezTo>
                <a:cubicBezTo>
                  <a:pt x="1648" y="10485"/>
                  <a:pt x="1653" y="10507"/>
                  <a:pt x="1687" y="10583"/>
                </a:cubicBezTo>
                <a:cubicBezTo>
                  <a:pt x="1712" y="10638"/>
                  <a:pt x="1735" y="10680"/>
                  <a:pt x="1753" y="10716"/>
                </a:cubicBezTo>
                <a:cubicBezTo>
                  <a:pt x="1776" y="10764"/>
                  <a:pt x="1785" y="10802"/>
                  <a:pt x="1819" y="10848"/>
                </a:cubicBezTo>
                <a:cubicBezTo>
                  <a:pt x="1851" y="10891"/>
                  <a:pt x="1888" y="10955"/>
                  <a:pt x="1918" y="10980"/>
                </a:cubicBezTo>
                <a:cubicBezTo>
                  <a:pt x="1987" y="11038"/>
                  <a:pt x="1934" y="11019"/>
                  <a:pt x="2017" y="11046"/>
                </a:cubicBezTo>
                <a:cubicBezTo>
                  <a:pt x="2103" y="11074"/>
                  <a:pt x="2213" y="11035"/>
                  <a:pt x="2282" y="11013"/>
                </a:cubicBezTo>
                <a:cubicBezTo>
                  <a:pt x="2366" y="10986"/>
                  <a:pt x="2457" y="10900"/>
                  <a:pt x="2514" y="10848"/>
                </a:cubicBezTo>
                <a:cubicBezTo>
                  <a:pt x="2571" y="10795"/>
                  <a:pt x="2599" y="10768"/>
                  <a:pt x="2646" y="10716"/>
                </a:cubicBezTo>
                <a:cubicBezTo>
                  <a:pt x="2674" y="10685"/>
                  <a:pt x="2710" y="10645"/>
                  <a:pt x="2745" y="10583"/>
                </a:cubicBezTo>
                <a:cubicBezTo>
                  <a:pt x="2810" y="10468"/>
                  <a:pt x="2783" y="10480"/>
                  <a:pt x="2811" y="10352"/>
                </a:cubicBezTo>
                <a:cubicBezTo>
                  <a:pt x="2830" y="10266"/>
                  <a:pt x="2831" y="10173"/>
                  <a:pt x="2844" y="10087"/>
                </a:cubicBezTo>
                <a:cubicBezTo>
                  <a:pt x="2857" y="9997"/>
                  <a:pt x="2873" y="9920"/>
                  <a:pt x="2877" y="9823"/>
                </a:cubicBezTo>
                <a:cubicBezTo>
                  <a:pt x="2886" y="9590"/>
                  <a:pt x="2858" y="9339"/>
                  <a:pt x="2844" y="9128"/>
                </a:cubicBezTo>
                <a:cubicBezTo>
                  <a:pt x="2831" y="8929"/>
                  <a:pt x="2823" y="8725"/>
                  <a:pt x="2811" y="8533"/>
                </a:cubicBezTo>
                <a:cubicBezTo>
                  <a:pt x="2797" y="8301"/>
                  <a:pt x="2788" y="8092"/>
                  <a:pt x="2910" y="7904"/>
                </a:cubicBezTo>
                <a:cubicBezTo>
                  <a:pt x="2947" y="7847"/>
                  <a:pt x="2988" y="7784"/>
                  <a:pt x="3043" y="7739"/>
                </a:cubicBezTo>
                <a:cubicBezTo>
                  <a:pt x="3074" y="7713"/>
                  <a:pt x="3153" y="7675"/>
                  <a:pt x="3208" y="7640"/>
                </a:cubicBezTo>
                <a:cubicBezTo>
                  <a:pt x="3255" y="7610"/>
                  <a:pt x="3293" y="7596"/>
                  <a:pt x="3340" y="7574"/>
                </a:cubicBezTo>
                <a:cubicBezTo>
                  <a:pt x="3403" y="7544"/>
                  <a:pt x="3477" y="7518"/>
                  <a:pt x="3539" y="7508"/>
                </a:cubicBezTo>
                <a:cubicBezTo>
                  <a:pt x="3686" y="7485"/>
                  <a:pt x="3874" y="7504"/>
                  <a:pt x="4002" y="7541"/>
                </a:cubicBezTo>
                <a:cubicBezTo>
                  <a:pt x="4126" y="7577"/>
                  <a:pt x="4207" y="7589"/>
                  <a:pt x="4333" y="7607"/>
                </a:cubicBezTo>
                <a:cubicBezTo>
                  <a:pt x="4420" y="7619"/>
                  <a:pt x="4505" y="7629"/>
                  <a:pt x="4597" y="7640"/>
                </a:cubicBezTo>
                <a:cubicBezTo>
                  <a:pt x="4679" y="7650"/>
                  <a:pt x="4774" y="7662"/>
                  <a:pt x="4862" y="7673"/>
                </a:cubicBezTo>
                <a:cubicBezTo>
                  <a:pt x="4935" y="7682"/>
                  <a:pt x="5018" y="7687"/>
                  <a:pt x="5093" y="7706"/>
                </a:cubicBezTo>
                <a:cubicBezTo>
                  <a:pt x="5180" y="7728"/>
                  <a:pt x="5277" y="7747"/>
                  <a:pt x="5358" y="7772"/>
                </a:cubicBezTo>
                <a:cubicBezTo>
                  <a:pt x="5464" y="7805"/>
                  <a:pt x="5551" y="7806"/>
                  <a:pt x="5655" y="7838"/>
                </a:cubicBezTo>
                <a:cubicBezTo>
                  <a:pt x="5697" y="7851"/>
                  <a:pt x="5821" y="7883"/>
                  <a:pt x="5854" y="7904"/>
                </a:cubicBezTo>
                <a:cubicBezTo>
                  <a:pt x="5878" y="7919"/>
                  <a:pt x="5883" y="7971"/>
                  <a:pt x="5920" y="8004"/>
                </a:cubicBezTo>
                <a:cubicBezTo>
                  <a:pt x="5973" y="8052"/>
                  <a:pt x="6006" y="8072"/>
                  <a:pt x="6052" y="8136"/>
                </a:cubicBezTo>
                <a:cubicBezTo>
                  <a:pt x="6084" y="8180"/>
                  <a:pt x="6123" y="8309"/>
                  <a:pt x="6152" y="8367"/>
                </a:cubicBezTo>
                <a:cubicBezTo>
                  <a:pt x="6196" y="8456"/>
                  <a:pt x="6244" y="8530"/>
                  <a:pt x="6284" y="8632"/>
                </a:cubicBezTo>
                <a:cubicBezTo>
                  <a:pt x="6322" y="8727"/>
                  <a:pt x="6346" y="8832"/>
                  <a:pt x="6383" y="8930"/>
                </a:cubicBezTo>
                <a:cubicBezTo>
                  <a:pt x="6387" y="8942"/>
                  <a:pt x="6437" y="9046"/>
                  <a:pt x="6449" y="9095"/>
                </a:cubicBezTo>
                <a:cubicBezTo>
                  <a:pt x="6463" y="9148"/>
                  <a:pt x="6459" y="9177"/>
                  <a:pt x="6482" y="9227"/>
                </a:cubicBezTo>
                <a:cubicBezTo>
                  <a:pt x="6524" y="9319"/>
                  <a:pt x="6566" y="9357"/>
                  <a:pt x="6582" y="9459"/>
                </a:cubicBezTo>
                <a:cubicBezTo>
                  <a:pt x="6628" y="9760"/>
                  <a:pt x="6524" y="10105"/>
                  <a:pt x="6615" y="10385"/>
                </a:cubicBezTo>
                <a:cubicBezTo>
                  <a:pt x="6640" y="10461"/>
                  <a:pt x="6622" y="10486"/>
                  <a:pt x="6681" y="10517"/>
                </a:cubicBezTo>
                <a:cubicBezTo>
                  <a:pt x="6746" y="10552"/>
                  <a:pt x="6934" y="10511"/>
                  <a:pt x="6978" y="10484"/>
                </a:cubicBezTo>
                <a:cubicBezTo>
                  <a:pt x="7106" y="10404"/>
                  <a:pt x="7219" y="10235"/>
                  <a:pt x="7309" y="10120"/>
                </a:cubicBezTo>
                <a:cubicBezTo>
                  <a:pt x="7370" y="10041"/>
                  <a:pt x="7415" y="9966"/>
                  <a:pt x="7474" y="9889"/>
                </a:cubicBezTo>
                <a:cubicBezTo>
                  <a:pt x="7509" y="9843"/>
                  <a:pt x="7586" y="9774"/>
                  <a:pt x="7607" y="9723"/>
                </a:cubicBezTo>
                <a:cubicBezTo>
                  <a:pt x="7621" y="9689"/>
                  <a:pt x="7667" y="9554"/>
                  <a:pt x="7673" y="9525"/>
                </a:cubicBezTo>
                <a:cubicBezTo>
                  <a:pt x="7713" y="9344"/>
                  <a:pt x="7664" y="9128"/>
                  <a:pt x="7607" y="8963"/>
                </a:cubicBezTo>
                <a:cubicBezTo>
                  <a:pt x="7571" y="8859"/>
                  <a:pt x="7533" y="8754"/>
                  <a:pt x="7474" y="8665"/>
                </a:cubicBezTo>
                <a:cubicBezTo>
                  <a:pt x="7429" y="8598"/>
                  <a:pt x="7366" y="8548"/>
                  <a:pt x="7309" y="8500"/>
                </a:cubicBezTo>
                <a:cubicBezTo>
                  <a:pt x="7241" y="8443"/>
                  <a:pt x="7182" y="8402"/>
                  <a:pt x="7111" y="8367"/>
                </a:cubicBezTo>
                <a:cubicBezTo>
                  <a:pt x="7088" y="8356"/>
                  <a:pt x="7063" y="8349"/>
                  <a:pt x="7011" y="8334"/>
                </a:cubicBezTo>
                <a:cubicBezTo>
                  <a:pt x="6893" y="8300"/>
                  <a:pt x="6810" y="8304"/>
                  <a:pt x="6681" y="8301"/>
                </a:cubicBezTo>
                <a:cubicBezTo>
                  <a:pt x="6536" y="8298"/>
                  <a:pt x="6483" y="8311"/>
                  <a:pt x="6383" y="8367"/>
                </a:cubicBezTo>
                <a:cubicBezTo>
                  <a:pt x="6352" y="8384"/>
                  <a:pt x="6310" y="8438"/>
                  <a:pt x="6284" y="8467"/>
                </a:cubicBezTo>
                <a:cubicBezTo>
                  <a:pt x="6257" y="8497"/>
                  <a:pt x="6244" y="8532"/>
                  <a:pt x="6218" y="8566"/>
                </a:cubicBezTo>
              </a:path>
              <a:path w="6351" h="3738">
                <a:moveTo>
                  <a:pt x="3241" y="7971"/>
                </a:moveTo>
                <a:cubicBezTo>
                  <a:pt x="3155" y="7982"/>
                  <a:pt x="3090" y="7982"/>
                  <a:pt x="3043" y="8004"/>
                </a:cubicBezTo>
                <a:cubicBezTo>
                  <a:pt x="2997" y="8026"/>
                  <a:pt x="2970" y="8049"/>
                  <a:pt x="2943" y="8070"/>
                </a:cubicBezTo>
                <a:cubicBezTo>
                  <a:pt x="2927" y="8082"/>
                  <a:pt x="2894" y="8120"/>
                  <a:pt x="2877" y="8136"/>
                </a:cubicBezTo>
                <a:cubicBezTo>
                  <a:pt x="2837" y="8174"/>
                  <a:pt x="2805" y="8238"/>
                  <a:pt x="2778" y="8268"/>
                </a:cubicBezTo>
                <a:cubicBezTo>
                  <a:pt x="2737" y="8312"/>
                  <a:pt x="2704" y="8357"/>
                  <a:pt x="2679" y="8401"/>
                </a:cubicBezTo>
                <a:cubicBezTo>
                  <a:pt x="2646" y="8460"/>
                  <a:pt x="2634" y="8538"/>
                  <a:pt x="2613" y="8599"/>
                </a:cubicBezTo>
                <a:cubicBezTo>
                  <a:pt x="2603" y="8628"/>
                  <a:pt x="2594" y="8702"/>
                  <a:pt x="2580" y="8731"/>
                </a:cubicBezTo>
                <a:cubicBezTo>
                  <a:pt x="2553" y="8789"/>
                  <a:pt x="2524" y="8781"/>
                  <a:pt x="2514" y="8830"/>
                </a:cubicBezTo>
                <a:cubicBezTo>
                  <a:pt x="2502" y="8886"/>
                  <a:pt x="2481" y="9052"/>
                  <a:pt x="2480" y="9062"/>
                </a:cubicBezTo>
                <a:cubicBezTo>
                  <a:pt x="2463" y="9239"/>
                  <a:pt x="2480" y="9426"/>
                  <a:pt x="2514" y="9591"/>
                </a:cubicBezTo>
                <a:cubicBezTo>
                  <a:pt x="2526" y="9647"/>
                  <a:pt x="2533" y="9701"/>
                  <a:pt x="2547" y="9757"/>
                </a:cubicBezTo>
                <a:cubicBezTo>
                  <a:pt x="2566" y="9832"/>
                  <a:pt x="2563" y="9912"/>
                  <a:pt x="2580" y="9988"/>
                </a:cubicBezTo>
                <a:cubicBezTo>
                  <a:pt x="2593" y="10044"/>
                  <a:pt x="2602" y="10096"/>
                  <a:pt x="2613" y="10153"/>
                </a:cubicBezTo>
                <a:cubicBezTo>
                  <a:pt x="2626" y="10219"/>
                  <a:pt x="2670" y="10291"/>
                  <a:pt x="2679" y="10319"/>
                </a:cubicBezTo>
                <a:cubicBezTo>
                  <a:pt x="2698" y="10376"/>
                  <a:pt x="2689" y="10431"/>
                  <a:pt x="2712" y="10484"/>
                </a:cubicBezTo>
                <a:cubicBezTo>
                  <a:pt x="2734" y="10535"/>
                  <a:pt x="2788" y="10588"/>
                  <a:pt x="2811" y="10616"/>
                </a:cubicBezTo>
                <a:cubicBezTo>
                  <a:pt x="2859" y="10675"/>
                  <a:pt x="2777" y="10666"/>
                  <a:pt x="2877" y="10683"/>
                </a:cubicBezTo>
                <a:cubicBezTo>
                  <a:pt x="2926" y="10691"/>
                  <a:pt x="2956" y="10670"/>
                  <a:pt x="2977" y="10649"/>
                </a:cubicBezTo>
                <a:cubicBezTo>
                  <a:pt x="2992" y="10634"/>
                  <a:pt x="3001" y="10566"/>
                  <a:pt x="3010" y="10550"/>
                </a:cubicBezTo>
                <a:cubicBezTo>
                  <a:pt x="3029" y="10515"/>
                  <a:pt x="3062" y="10456"/>
                  <a:pt x="3076" y="10418"/>
                </a:cubicBezTo>
                <a:cubicBezTo>
                  <a:pt x="3099" y="10356"/>
                  <a:pt x="3128" y="10276"/>
                  <a:pt x="3142" y="10220"/>
                </a:cubicBezTo>
                <a:cubicBezTo>
                  <a:pt x="3160" y="10148"/>
                  <a:pt x="3167" y="10061"/>
                  <a:pt x="3175" y="9988"/>
                </a:cubicBezTo>
                <a:cubicBezTo>
                  <a:pt x="3202" y="9743"/>
                  <a:pt x="3191" y="9456"/>
                  <a:pt x="3208" y="9227"/>
                </a:cubicBezTo>
                <a:cubicBezTo>
                  <a:pt x="3220" y="9069"/>
                  <a:pt x="3232" y="8840"/>
                  <a:pt x="3241" y="8731"/>
                </a:cubicBezTo>
                <a:cubicBezTo>
                  <a:pt x="3249" y="8631"/>
                  <a:pt x="3254" y="8550"/>
                  <a:pt x="3274" y="8467"/>
                </a:cubicBezTo>
                <a:cubicBezTo>
                  <a:pt x="3290" y="8401"/>
                  <a:pt x="3299" y="8336"/>
                  <a:pt x="3307" y="8268"/>
                </a:cubicBezTo>
                <a:cubicBezTo>
                  <a:pt x="3313" y="8213"/>
                  <a:pt x="3336" y="8143"/>
                  <a:pt x="3340" y="8103"/>
                </a:cubicBezTo>
                <a:cubicBezTo>
                  <a:pt x="3348" y="8033"/>
                  <a:pt x="3364" y="7966"/>
                  <a:pt x="3373" y="7938"/>
                </a:cubicBezTo>
                <a:cubicBezTo>
                  <a:pt x="3391" y="7882"/>
                  <a:pt x="3376" y="7874"/>
                  <a:pt x="3407" y="7838"/>
                </a:cubicBezTo>
                <a:cubicBezTo>
                  <a:pt x="3415" y="7828"/>
                  <a:pt x="3516" y="7752"/>
                  <a:pt x="3539" y="7739"/>
                </a:cubicBezTo>
                <a:cubicBezTo>
                  <a:pt x="3590" y="7709"/>
                  <a:pt x="3704" y="7666"/>
                  <a:pt x="3770" y="7640"/>
                </a:cubicBezTo>
                <a:cubicBezTo>
                  <a:pt x="3834" y="7615"/>
                  <a:pt x="3929" y="7583"/>
                  <a:pt x="4002" y="7574"/>
                </a:cubicBezTo>
                <a:cubicBezTo>
                  <a:pt x="4275" y="7541"/>
                  <a:pt x="4747" y="7520"/>
                  <a:pt x="4994" y="7607"/>
                </a:cubicBezTo>
                <a:cubicBezTo>
                  <a:pt x="5066" y="7632"/>
                  <a:pt x="5129" y="7703"/>
                  <a:pt x="5192" y="7739"/>
                </a:cubicBezTo>
                <a:cubicBezTo>
                  <a:pt x="5258" y="7777"/>
                  <a:pt x="5290" y="7805"/>
                  <a:pt x="5325" y="7838"/>
                </a:cubicBezTo>
                <a:cubicBezTo>
                  <a:pt x="5349" y="7861"/>
                  <a:pt x="5402" y="7879"/>
                  <a:pt x="5424" y="7904"/>
                </a:cubicBezTo>
                <a:cubicBezTo>
                  <a:pt x="5468" y="7956"/>
                  <a:pt x="5507" y="8034"/>
                  <a:pt x="5556" y="8103"/>
                </a:cubicBezTo>
                <a:cubicBezTo>
                  <a:pt x="5615" y="8187"/>
                  <a:pt x="5698" y="8261"/>
                  <a:pt x="5755" y="8334"/>
                </a:cubicBezTo>
                <a:cubicBezTo>
                  <a:pt x="5802" y="8394"/>
                  <a:pt x="5916" y="8481"/>
                  <a:pt x="5953" y="8533"/>
                </a:cubicBezTo>
                <a:cubicBezTo>
                  <a:pt x="5983" y="8576"/>
                  <a:pt x="5995" y="8600"/>
                  <a:pt x="6019" y="8632"/>
                </a:cubicBezTo>
                <a:cubicBezTo>
                  <a:pt x="6044" y="8666"/>
                  <a:pt x="6050" y="8682"/>
                  <a:pt x="6085" y="8731"/>
                </a:cubicBezTo>
                <a:cubicBezTo>
                  <a:pt x="6131" y="8795"/>
                  <a:pt x="6164" y="8829"/>
                  <a:pt x="6218" y="8897"/>
                </a:cubicBezTo>
                <a:cubicBezTo>
                  <a:pt x="6256" y="8945"/>
                  <a:pt x="6288" y="9018"/>
                  <a:pt x="6317" y="9062"/>
                </a:cubicBezTo>
                <a:cubicBezTo>
                  <a:pt x="6321" y="9068"/>
                  <a:pt x="6369" y="9145"/>
                  <a:pt x="6383" y="9161"/>
                </a:cubicBezTo>
                <a:cubicBezTo>
                  <a:pt x="6424" y="9209"/>
                  <a:pt x="6455" y="9245"/>
                  <a:pt x="6482" y="9293"/>
                </a:cubicBezTo>
                <a:cubicBezTo>
                  <a:pt x="6531" y="9380"/>
                  <a:pt x="6525" y="9438"/>
                  <a:pt x="6548" y="9525"/>
                </a:cubicBezTo>
                <a:cubicBezTo>
                  <a:pt x="6568" y="9604"/>
                  <a:pt x="6565" y="9623"/>
                  <a:pt x="6582" y="9723"/>
                </a:cubicBezTo>
                <a:cubicBezTo>
                  <a:pt x="6607" y="9866"/>
                  <a:pt x="6638" y="10013"/>
                  <a:pt x="6648" y="10153"/>
                </a:cubicBezTo>
                <a:cubicBezTo>
                  <a:pt x="6653" y="10219"/>
                  <a:pt x="6674" y="10253"/>
                  <a:pt x="6681" y="10319"/>
                </a:cubicBezTo>
                <a:cubicBezTo>
                  <a:pt x="6690" y="10399"/>
                  <a:pt x="6694" y="10419"/>
                  <a:pt x="6714" y="10484"/>
                </a:cubicBezTo>
                <a:cubicBezTo>
                  <a:pt x="6726" y="10524"/>
                  <a:pt x="6741" y="10537"/>
                  <a:pt x="6747" y="10550"/>
                </a:cubicBezTo>
                <a:cubicBezTo>
                  <a:pt x="6785" y="10532"/>
                  <a:pt x="6846" y="10545"/>
                  <a:pt x="6879" y="10517"/>
                </a:cubicBezTo>
                <a:cubicBezTo>
                  <a:pt x="6900" y="10499"/>
                  <a:pt x="6942" y="10413"/>
                  <a:pt x="6978" y="10385"/>
                </a:cubicBezTo>
                <a:cubicBezTo>
                  <a:pt x="7015" y="10356"/>
                  <a:pt x="7114" y="10274"/>
                  <a:pt x="7144" y="10253"/>
                </a:cubicBezTo>
                <a:cubicBezTo>
                  <a:pt x="7189" y="10221"/>
                  <a:pt x="7242" y="10192"/>
                  <a:pt x="7276" y="10153"/>
                </a:cubicBezTo>
                <a:cubicBezTo>
                  <a:pt x="7327" y="10095"/>
                  <a:pt x="7349" y="10049"/>
                  <a:pt x="7408" y="9988"/>
                </a:cubicBezTo>
                <a:cubicBezTo>
                  <a:pt x="7454" y="9941"/>
                  <a:pt x="7485" y="9890"/>
                  <a:pt x="7508" y="9856"/>
                </a:cubicBezTo>
                <a:cubicBezTo>
                  <a:pt x="7545" y="9802"/>
                  <a:pt x="7606" y="9710"/>
                  <a:pt x="7640" y="9624"/>
                </a:cubicBezTo>
                <a:cubicBezTo>
                  <a:pt x="7678" y="9528"/>
                  <a:pt x="7695" y="9432"/>
                  <a:pt x="7706" y="9327"/>
                </a:cubicBezTo>
                <a:cubicBezTo>
                  <a:pt x="7721" y="9176"/>
                  <a:pt x="7731" y="8968"/>
                  <a:pt x="7673" y="8830"/>
                </a:cubicBezTo>
                <a:cubicBezTo>
                  <a:pt x="7644" y="8760"/>
                  <a:pt x="7629" y="8725"/>
                  <a:pt x="7574" y="8665"/>
                </a:cubicBezTo>
                <a:cubicBezTo>
                  <a:pt x="7496" y="8580"/>
                  <a:pt x="7457" y="8555"/>
                  <a:pt x="7375" y="8500"/>
                </a:cubicBezTo>
                <a:cubicBezTo>
                  <a:pt x="7269" y="8430"/>
                  <a:pt x="7327" y="8469"/>
                  <a:pt x="7210" y="8434"/>
                </a:cubicBezTo>
                <a:cubicBezTo>
                  <a:pt x="7163" y="8420"/>
                  <a:pt x="7128" y="8414"/>
                  <a:pt x="7078" y="8401"/>
                </a:cubicBezTo>
                <a:cubicBezTo>
                  <a:pt x="7026" y="8388"/>
                  <a:pt x="7002" y="8373"/>
                  <a:pt x="6945" y="8367"/>
                </a:cubicBezTo>
                <a:cubicBezTo>
                  <a:pt x="6786" y="8349"/>
                  <a:pt x="6522" y="8351"/>
                  <a:pt x="6416" y="8401"/>
                </a:cubicBezTo>
                <a:cubicBezTo>
                  <a:pt x="6372" y="8422"/>
                  <a:pt x="6347" y="8429"/>
                  <a:pt x="6317" y="8467"/>
                </a:cubicBezTo>
                <a:cubicBezTo>
                  <a:pt x="6293" y="8499"/>
                  <a:pt x="6309" y="8529"/>
                  <a:pt x="6284" y="8566"/>
                </a:cubicBezTo>
                <a:cubicBezTo>
                  <a:pt x="6251" y="8566"/>
                  <a:pt x="6240" y="8566"/>
                  <a:pt x="6251" y="8599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18"/>
          <p:cNvSpPr/>
          <p:nvPr/>
        </p:nvSpPr>
        <p:spPr>
          <a:xfrm>
            <a:off x="3584520" y="1797120"/>
            <a:ext cx="2844720" cy="2882880"/>
          </a:xfrm>
          <a:custGeom>
            <a:avLst/>
            <a:gdLst/>
            <a:ahLst/>
            <a:rect l="l" t="t" r="r" b="b"/>
            <a:pathLst>
              <a:path w="7905" h="8005">
                <a:moveTo>
                  <a:pt x="15412" y="9360"/>
                </a:moveTo>
                <a:cubicBezTo>
                  <a:pt x="15331" y="9367"/>
                  <a:pt x="15282" y="9373"/>
                  <a:pt x="15214" y="9393"/>
                </a:cubicBezTo>
                <a:cubicBezTo>
                  <a:pt x="15111" y="9423"/>
                  <a:pt x="15166" y="9433"/>
                  <a:pt x="15114" y="9492"/>
                </a:cubicBezTo>
                <a:cubicBezTo>
                  <a:pt x="15089" y="9520"/>
                  <a:pt x="15048" y="9550"/>
                  <a:pt x="15015" y="9591"/>
                </a:cubicBezTo>
                <a:cubicBezTo>
                  <a:pt x="14976" y="9640"/>
                  <a:pt x="14937" y="9659"/>
                  <a:pt x="14916" y="9723"/>
                </a:cubicBezTo>
                <a:cubicBezTo>
                  <a:pt x="14902" y="9766"/>
                  <a:pt x="14896" y="9816"/>
                  <a:pt x="14883" y="9856"/>
                </a:cubicBezTo>
                <a:cubicBezTo>
                  <a:pt x="14860" y="9926"/>
                  <a:pt x="14852" y="9979"/>
                  <a:pt x="14850" y="10054"/>
                </a:cubicBezTo>
                <a:cubicBezTo>
                  <a:pt x="14847" y="10140"/>
                  <a:pt x="14824" y="10210"/>
                  <a:pt x="14817" y="10286"/>
                </a:cubicBezTo>
                <a:cubicBezTo>
                  <a:pt x="14798" y="10492"/>
                  <a:pt x="14783" y="10790"/>
                  <a:pt x="14850" y="10980"/>
                </a:cubicBezTo>
                <a:cubicBezTo>
                  <a:pt x="14872" y="11043"/>
                  <a:pt x="14926" y="11116"/>
                  <a:pt x="14949" y="11179"/>
                </a:cubicBezTo>
                <a:cubicBezTo>
                  <a:pt x="14971" y="11241"/>
                  <a:pt x="14978" y="11322"/>
                  <a:pt x="15015" y="11377"/>
                </a:cubicBezTo>
                <a:cubicBezTo>
                  <a:pt x="15035" y="11407"/>
                  <a:pt x="15098" y="11493"/>
                  <a:pt x="15114" y="11509"/>
                </a:cubicBezTo>
                <a:cubicBezTo>
                  <a:pt x="15203" y="11594"/>
                  <a:pt x="15280" y="11540"/>
                  <a:pt x="15379" y="11576"/>
                </a:cubicBezTo>
                <a:cubicBezTo>
                  <a:pt x="15507" y="11623"/>
                  <a:pt x="15540" y="11618"/>
                  <a:pt x="15677" y="11642"/>
                </a:cubicBezTo>
                <a:cubicBezTo>
                  <a:pt x="15858" y="11674"/>
                  <a:pt x="16021" y="11675"/>
                  <a:pt x="16206" y="11675"/>
                </a:cubicBezTo>
                <a:cubicBezTo>
                  <a:pt x="16401" y="11675"/>
                  <a:pt x="16525" y="11644"/>
                  <a:pt x="16702" y="11609"/>
                </a:cubicBezTo>
                <a:cubicBezTo>
                  <a:pt x="16823" y="11585"/>
                  <a:pt x="16948" y="11591"/>
                  <a:pt x="17066" y="11542"/>
                </a:cubicBezTo>
                <a:cubicBezTo>
                  <a:pt x="17174" y="11498"/>
                  <a:pt x="17221" y="11446"/>
                  <a:pt x="17297" y="11377"/>
                </a:cubicBezTo>
                <a:cubicBezTo>
                  <a:pt x="17402" y="11281"/>
                  <a:pt x="17490" y="11129"/>
                  <a:pt x="17595" y="11046"/>
                </a:cubicBezTo>
                <a:cubicBezTo>
                  <a:pt x="17698" y="10965"/>
                  <a:pt x="17778" y="10950"/>
                  <a:pt x="17826" y="10815"/>
                </a:cubicBezTo>
                <a:cubicBezTo>
                  <a:pt x="17866" y="10704"/>
                  <a:pt x="17859" y="10604"/>
                  <a:pt x="17859" y="10484"/>
                </a:cubicBezTo>
                <a:cubicBezTo>
                  <a:pt x="17859" y="10343"/>
                  <a:pt x="17860" y="10223"/>
                  <a:pt x="17826" y="10087"/>
                </a:cubicBezTo>
                <a:cubicBezTo>
                  <a:pt x="17803" y="9994"/>
                  <a:pt x="17783" y="9909"/>
                  <a:pt x="17727" y="9823"/>
                </a:cubicBezTo>
                <a:cubicBezTo>
                  <a:pt x="17658" y="9718"/>
                  <a:pt x="17560" y="9650"/>
                  <a:pt x="17463" y="9591"/>
                </a:cubicBezTo>
                <a:cubicBezTo>
                  <a:pt x="17368" y="9533"/>
                  <a:pt x="17288" y="9457"/>
                  <a:pt x="17198" y="9393"/>
                </a:cubicBezTo>
                <a:cubicBezTo>
                  <a:pt x="17133" y="9347"/>
                  <a:pt x="17067" y="9318"/>
                  <a:pt x="16999" y="9293"/>
                </a:cubicBezTo>
                <a:cubicBezTo>
                  <a:pt x="16857" y="9240"/>
                  <a:pt x="16654" y="9208"/>
                  <a:pt x="16503" y="9194"/>
                </a:cubicBezTo>
                <a:cubicBezTo>
                  <a:pt x="16157" y="9161"/>
                  <a:pt x="15794" y="9194"/>
                  <a:pt x="15445" y="9194"/>
                </a:cubicBezTo>
              </a:path>
              <a:path w="7905" h="8005">
                <a:moveTo>
                  <a:pt x="10881" y="5159"/>
                </a:moveTo>
                <a:cubicBezTo>
                  <a:pt x="10952" y="5141"/>
                  <a:pt x="11029" y="5099"/>
                  <a:pt x="11113" y="5093"/>
                </a:cubicBezTo>
                <a:cubicBezTo>
                  <a:pt x="11356" y="5075"/>
                  <a:pt x="11595" y="5033"/>
                  <a:pt x="11840" y="5027"/>
                </a:cubicBezTo>
                <a:cubicBezTo>
                  <a:pt x="12033" y="5022"/>
                  <a:pt x="12478" y="5111"/>
                  <a:pt x="12634" y="4994"/>
                </a:cubicBezTo>
              </a:path>
              <a:path w="7905" h="8005">
                <a:moveTo>
                  <a:pt x="11212" y="5159"/>
                </a:moveTo>
                <a:cubicBezTo>
                  <a:pt x="11236" y="5214"/>
                  <a:pt x="11210" y="5244"/>
                  <a:pt x="11245" y="5292"/>
                </a:cubicBezTo>
                <a:cubicBezTo>
                  <a:pt x="11315" y="5389"/>
                  <a:pt x="11376" y="5488"/>
                  <a:pt x="11443" y="5589"/>
                </a:cubicBezTo>
                <a:cubicBezTo>
                  <a:pt x="11637" y="5882"/>
                  <a:pt x="11765" y="6126"/>
                  <a:pt x="11906" y="6449"/>
                </a:cubicBezTo>
                <a:cubicBezTo>
                  <a:pt x="12065" y="6813"/>
                  <a:pt x="12169" y="7114"/>
                  <a:pt x="12237" y="7508"/>
                </a:cubicBezTo>
                <a:cubicBezTo>
                  <a:pt x="12275" y="7732"/>
                  <a:pt x="12241" y="7948"/>
                  <a:pt x="12270" y="8169"/>
                </a:cubicBezTo>
                <a:cubicBezTo>
                  <a:pt x="12295" y="8356"/>
                  <a:pt x="12293" y="8548"/>
                  <a:pt x="12336" y="8731"/>
                </a:cubicBezTo>
                <a:cubicBezTo>
                  <a:pt x="12351" y="8796"/>
                  <a:pt x="12353" y="8865"/>
                  <a:pt x="12369" y="8930"/>
                </a:cubicBezTo>
                <a:cubicBezTo>
                  <a:pt x="12394" y="9034"/>
                  <a:pt x="12423" y="9154"/>
                  <a:pt x="12435" y="9260"/>
                </a:cubicBezTo>
                <a:cubicBezTo>
                  <a:pt x="12435" y="9316"/>
                  <a:pt x="12435" y="9327"/>
                  <a:pt x="12435" y="9360"/>
                </a:cubicBezTo>
                <a:cubicBezTo>
                  <a:pt x="12438" y="9330"/>
                  <a:pt x="12483" y="9287"/>
                  <a:pt x="12435" y="9194"/>
                </a:cubicBezTo>
                <a:cubicBezTo>
                  <a:pt x="12399" y="9124"/>
                  <a:pt x="12365" y="9163"/>
                  <a:pt x="12336" y="9128"/>
                </a:cubicBezTo>
                <a:cubicBezTo>
                  <a:pt x="12300" y="9083"/>
                  <a:pt x="12298" y="9087"/>
                  <a:pt x="12237" y="9029"/>
                </a:cubicBezTo>
                <a:cubicBezTo>
                  <a:pt x="12216" y="9009"/>
                  <a:pt x="12187" y="8946"/>
                  <a:pt x="12171" y="8930"/>
                </a:cubicBezTo>
                <a:cubicBezTo>
                  <a:pt x="12238" y="8970"/>
                  <a:pt x="12277" y="9006"/>
                  <a:pt x="12336" y="9062"/>
                </a:cubicBezTo>
                <a:cubicBezTo>
                  <a:pt x="12405" y="9129"/>
                  <a:pt x="12476" y="9226"/>
                  <a:pt x="12535" y="9293"/>
                </a:cubicBezTo>
                <a:cubicBezTo>
                  <a:pt x="12587" y="9346"/>
                  <a:pt x="12588" y="9368"/>
                  <a:pt x="12634" y="9360"/>
                </a:cubicBezTo>
                <a:cubicBezTo>
                  <a:pt x="12664" y="9263"/>
                  <a:pt x="12697" y="9192"/>
                  <a:pt x="12733" y="9095"/>
                </a:cubicBezTo>
                <a:cubicBezTo>
                  <a:pt x="12756" y="9034"/>
                  <a:pt x="12787" y="8952"/>
                  <a:pt x="12799" y="8897"/>
                </a:cubicBezTo>
                <a:cubicBezTo>
                  <a:pt x="12799" y="8864"/>
                  <a:pt x="12799" y="8852"/>
                  <a:pt x="12799" y="8830"/>
                </a:cubicBezTo>
              </a:path>
              <a:path w="7905" h="8005">
                <a:moveTo>
                  <a:pt x="13328" y="8864"/>
                </a:moveTo>
                <a:cubicBezTo>
                  <a:pt x="13298" y="8816"/>
                  <a:pt x="13318" y="8784"/>
                  <a:pt x="13262" y="8731"/>
                </a:cubicBezTo>
                <a:cubicBezTo>
                  <a:pt x="13204" y="8675"/>
                  <a:pt x="13192" y="8690"/>
                  <a:pt x="13130" y="8665"/>
                </a:cubicBezTo>
                <a:cubicBezTo>
                  <a:pt x="13035" y="8626"/>
                  <a:pt x="12904" y="8607"/>
                  <a:pt x="12799" y="8599"/>
                </a:cubicBezTo>
                <a:cubicBezTo>
                  <a:pt x="12681" y="8590"/>
                  <a:pt x="12580" y="8587"/>
                  <a:pt x="12468" y="8566"/>
                </a:cubicBezTo>
                <a:cubicBezTo>
                  <a:pt x="12351" y="8544"/>
                  <a:pt x="12259" y="8536"/>
                  <a:pt x="12138" y="8533"/>
                </a:cubicBezTo>
                <a:cubicBezTo>
                  <a:pt x="12023" y="8530"/>
                  <a:pt x="11916" y="8532"/>
                  <a:pt x="11807" y="8566"/>
                </a:cubicBezTo>
                <a:cubicBezTo>
                  <a:pt x="11688" y="8603"/>
                  <a:pt x="11551" y="8640"/>
                  <a:pt x="11443" y="8698"/>
                </a:cubicBezTo>
                <a:cubicBezTo>
                  <a:pt x="11323" y="8762"/>
                  <a:pt x="11229" y="8817"/>
                  <a:pt x="11113" y="8864"/>
                </a:cubicBezTo>
                <a:cubicBezTo>
                  <a:pt x="10941" y="8934"/>
                  <a:pt x="10779" y="8990"/>
                  <a:pt x="10649" y="9128"/>
                </a:cubicBezTo>
                <a:cubicBezTo>
                  <a:pt x="10559" y="9223"/>
                  <a:pt x="10517" y="9319"/>
                  <a:pt x="10451" y="9426"/>
                </a:cubicBezTo>
                <a:cubicBezTo>
                  <a:pt x="10390" y="9526"/>
                  <a:pt x="10303" y="9613"/>
                  <a:pt x="10253" y="9723"/>
                </a:cubicBezTo>
                <a:cubicBezTo>
                  <a:pt x="10187" y="9868"/>
                  <a:pt x="10102" y="10069"/>
                  <a:pt x="10054" y="10220"/>
                </a:cubicBezTo>
                <a:cubicBezTo>
                  <a:pt x="9960" y="10518"/>
                  <a:pt x="9955" y="10837"/>
                  <a:pt x="9955" y="11146"/>
                </a:cubicBezTo>
                <a:cubicBezTo>
                  <a:pt x="9955" y="11318"/>
                  <a:pt x="9962" y="11475"/>
                  <a:pt x="9988" y="11642"/>
                </a:cubicBezTo>
                <a:cubicBezTo>
                  <a:pt x="10012" y="11792"/>
                  <a:pt x="10081" y="11917"/>
                  <a:pt x="10153" y="12039"/>
                </a:cubicBezTo>
                <a:cubicBezTo>
                  <a:pt x="10242" y="12190"/>
                  <a:pt x="10355" y="12290"/>
                  <a:pt x="10484" y="12402"/>
                </a:cubicBezTo>
                <a:cubicBezTo>
                  <a:pt x="10615" y="12515"/>
                  <a:pt x="10746" y="12571"/>
                  <a:pt x="10881" y="12667"/>
                </a:cubicBezTo>
                <a:cubicBezTo>
                  <a:pt x="11071" y="12803"/>
                  <a:pt x="11213" y="12849"/>
                  <a:pt x="11443" y="12898"/>
                </a:cubicBezTo>
                <a:cubicBezTo>
                  <a:pt x="11826" y="12979"/>
                  <a:pt x="12242" y="13039"/>
                  <a:pt x="12634" y="12998"/>
                </a:cubicBezTo>
                <a:cubicBezTo>
                  <a:pt x="12781" y="12983"/>
                  <a:pt x="12881" y="12940"/>
                  <a:pt x="12998" y="12865"/>
                </a:cubicBezTo>
                <a:cubicBezTo>
                  <a:pt x="13074" y="12816"/>
                  <a:pt x="13093" y="12752"/>
                  <a:pt x="13130" y="12700"/>
                </a:cubicBezTo>
                <a:cubicBezTo>
                  <a:pt x="13179" y="12631"/>
                  <a:pt x="13233" y="12607"/>
                  <a:pt x="13295" y="12535"/>
                </a:cubicBezTo>
                <a:cubicBezTo>
                  <a:pt x="13371" y="12448"/>
                  <a:pt x="13404" y="12408"/>
                  <a:pt x="13461" y="12303"/>
                </a:cubicBezTo>
                <a:cubicBezTo>
                  <a:pt x="13519" y="12196"/>
                  <a:pt x="13579" y="12088"/>
                  <a:pt x="13626" y="11972"/>
                </a:cubicBezTo>
                <a:cubicBezTo>
                  <a:pt x="13671" y="11861"/>
                  <a:pt x="13704" y="11675"/>
                  <a:pt x="13758" y="11576"/>
                </a:cubicBezTo>
                <a:cubicBezTo>
                  <a:pt x="13821" y="11461"/>
                  <a:pt x="13831" y="11432"/>
                  <a:pt x="13858" y="11311"/>
                </a:cubicBezTo>
                <a:cubicBezTo>
                  <a:pt x="13881" y="11208"/>
                  <a:pt x="13888" y="11125"/>
                  <a:pt x="13891" y="11013"/>
                </a:cubicBezTo>
                <a:cubicBezTo>
                  <a:pt x="13896" y="10774"/>
                  <a:pt x="13933" y="10480"/>
                  <a:pt x="13858" y="10253"/>
                </a:cubicBezTo>
                <a:cubicBezTo>
                  <a:pt x="13811" y="10111"/>
                  <a:pt x="13702" y="9965"/>
                  <a:pt x="13626" y="9823"/>
                </a:cubicBezTo>
                <a:cubicBezTo>
                  <a:pt x="13547" y="9675"/>
                  <a:pt x="13433" y="9575"/>
                  <a:pt x="13328" y="9459"/>
                </a:cubicBezTo>
                <a:cubicBezTo>
                  <a:pt x="13271" y="9396"/>
                  <a:pt x="13249" y="9364"/>
                  <a:pt x="13163" y="9327"/>
                </a:cubicBezTo>
                <a:cubicBezTo>
                  <a:pt x="13016" y="9264"/>
                  <a:pt x="12743" y="9274"/>
                  <a:pt x="12601" y="9260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19"/>
          <p:cNvSpPr/>
          <p:nvPr/>
        </p:nvSpPr>
        <p:spPr>
          <a:xfrm>
            <a:off x="452520" y="3881520"/>
            <a:ext cx="3833640" cy="774720"/>
          </a:xfrm>
          <a:custGeom>
            <a:avLst/>
            <a:gdLst/>
            <a:ahLst/>
            <a:rect l="l" t="t" r="r" b="b"/>
            <a:pathLst>
              <a:path w="10650" h="2151">
                <a:moveTo>
                  <a:pt x="1885" y="11509"/>
                </a:moveTo>
                <a:cubicBezTo>
                  <a:pt x="1912" y="11493"/>
                  <a:pt x="1931" y="11494"/>
                  <a:pt x="1984" y="11476"/>
                </a:cubicBezTo>
                <a:cubicBezTo>
                  <a:pt x="2061" y="11449"/>
                  <a:pt x="2143" y="11389"/>
                  <a:pt x="2216" y="11344"/>
                </a:cubicBezTo>
                <a:cubicBezTo>
                  <a:pt x="2272" y="11310"/>
                  <a:pt x="2281" y="11315"/>
                  <a:pt x="2348" y="11311"/>
                </a:cubicBezTo>
                <a:cubicBezTo>
                  <a:pt x="2387" y="11309"/>
                  <a:pt x="2516" y="11301"/>
                  <a:pt x="2547" y="11278"/>
                </a:cubicBezTo>
                <a:cubicBezTo>
                  <a:pt x="2547" y="11267"/>
                  <a:pt x="2547" y="11256"/>
                  <a:pt x="2547" y="11245"/>
                </a:cubicBezTo>
                <a:cubicBezTo>
                  <a:pt x="2151" y="11245"/>
                  <a:pt x="1569" y="11245"/>
                  <a:pt x="1290" y="11245"/>
                </a:cubicBezTo>
                <a:cubicBezTo>
                  <a:pt x="1790" y="11245"/>
                  <a:pt x="2318" y="11289"/>
                  <a:pt x="2811" y="11212"/>
                </a:cubicBezTo>
                <a:cubicBezTo>
                  <a:pt x="3016" y="11180"/>
                  <a:pt x="3211" y="11184"/>
                  <a:pt x="3407" y="11113"/>
                </a:cubicBezTo>
              </a:path>
              <a:path w="10650" h="2151">
                <a:moveTo>
                  <a:pt x="11906" y="11972"/>
                </a:moveTo>
                <a:cubicBezTo>
                  <a:pt x="11836" y="12015"/>
                  <a:pt x="11729" y="12049"/>
                  <a:pt x="11642" y="12105"/>
                </a:cubicBezTo>
                <a:cubicBezTo>
                  <a:pt x="11509" y="12191"/>
                  <a:pt x="11388" y="12286"/>
                  <a:pt x="11245" y="12369"/>
                </a:cubicBezTo>
                <a:cubicBezTo>
                  <a:pt x="10918" y="12558"/>
                  <a:pt x="10619" y="12642"/>
                  <a:pt x="10253" y="12700"/>
                </a:cubicBezTo>
                <a:cubicBezTo>
                  <a:pt x="10020" y="12737"/>
                  <a:pt x="9789" y="12793"/>
                  <a:pt x="9558" y="12832"/>
                </a:cubicBezTo>
                <a:cubicBezTo>
                  <a:pt x="9349" y="12868"/>
                  <a:pt x="9136" y="12910"/>
                  <a:pt x="8930" y="12932"/>
                </a:cubicBezTo>
                <a:cubicBezTo>
                  <a:pt x="8086" y="13021"/>
                  <a:pt x="7173" y="12932"/>
                  <a:pt x="6350" y="12799"/>
                </a:cubicBezTo>
                <a:cubicBezTo>
                  <a:pt x="5953" y="12735"/>
                  <a:pt x="5527" y="12737"/>
                  <a:pt x="5126" y="12733"/>
                </a:cubicBezTo>
                <a:cubicBezTo>
                  <a:pt x="4836" y="12730"/>
                  <a:pt x="3991" y="12867"/>
                  <a:pt x="3770" y="12700"/>
                </a:cubicBezTo>
                <a:cubicBezTo>
                  <a:pt x="3708" y="12653"/>
                  <a:pt x="3670" y="12507"/>
                  <a:pt x="3605" y="12435"/>
                </a:cubicBezTo>
                <a:cubicBezTo>
                  <a:pt x="3508" y="12326"/>
                  <a:pt x="3397" y="12225"/>
                  <a:pt x="3307" y="12105"/>
                </a:cubicBezTo>
                <a:cubicBezTo>
                  <a:pt x="3235" y="12009"/>
                  <a:pt x="3179" y="11887"/>
                  <a:pt x="3109" y="11774"/>
                </a:cubicBezTo>
                <a:cubicBezTo>
                  <a:pt x="3068" y="11708"/>
                  <a:pt x="3057" y="11649"/>
                  <a:pt x="3010" y="11576"/>
                </a:cubicBezTo>
                <a:cubicBezTo>
                  <a:pt x="2957" y="11494"/>
                  <a:pt x="2899" y="11415"/>
                  <a:pt x="2844" y="11344"/>
                </a:cubicBezTo>
                <a:cubicBezTo>
                  <a:pt x="2826" y="11321"/>
                  <a:pt x="2801" y="11268"/>
                  <a:pt x="2778" y="11245"/>
                </a:cubicBezTo>
                <a:cubicBezTo>
                  <a:pt x="2726" y="11193"/>
                  <a:pt x="2724" y="11171"/>
                  <a:pt x="2679" y="11179"/>
                </a:cubicBezTo>
                <a:cubicBezTo>
                  <a:pt x="2660" y="11208"/>
                  <a:pt x="2591" y="11290"/>
                  <a:pt x="2580" y="11311"/>
                </a:cubicBezTo>
                <a:cubicBezTo>
                  <a:pt x="2535" y="11399"/>
                  <a:pt x="2526" y="11510"/>
                  <a:pt x="2480" y="11609"/>
                </a:cubicBezTo>
                <a:cubicBezTo>
                  <a:pt x="2450" y="11639"/>
                  <a:pt x="2439" y="11645"/>
                  <a:pt x="2447" y="11675"/>
                </a:cubicBezTo>
                <a:cubicBezTo>
                  <a:pt x="2447" y="11461"/>
                  <a:pt x="2376" y="11094"/>
                  <a:pt x="2480" y="10914"/>
                </a:cubicBezTo>
                <a:cubicBezTo>
                  <a:pt x="2511" y="10861"/>
                  <a:pt x="2522" y="10851"/>
                  <a:pt x="2580" y="10815"/>
                </a:cubicBezTo>
                <a:cubicBezTo>
                  <a:pt x="2631" y="10784"/>
                  <a:pt x="2660" y="10794"/>
                  <a:pt x="2745" y="10782"/>
                </a:cubicBezTo>
                <a:cubicBezTo>
                  <a:pt x="2916" y="10758"/>
                  <a:pt x="3053" y="10816"/>
                  <a:pt x="3208" y="10881"/>
                </a:cubicBezTo>
                <a:cubicBezTo>
                  <a:pt x="3395" y="10960"/>
                  <a:pt x="3595" y="11007"/>
                  <a:pt x="3770" y="11113"/>
                </a:cubicBezTo>
                <a:cubicBezTo>
                  <a:pt x="3811" y="11138"/>
                  <a:pt x="3729" y="11120"/>
                  <a:pt x="3770" y="11146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20"/>
          <p:cNvSpPr/>
          <p:nvPr/>
        </p:nvSpPr>
        <p:spPr>
          <a:xfrm>
            <a:off x="2560680" y="1238400"/>
            <a:ext cx="1987560" cy="631800"/>
          </a:xfrm>
          <a:custGeom>
            <a:avLst/>
            <a:gdLst/>
            <a:ahLst/>
            <a:rect l="l" t="t" r="r" b="b"/>
            <a:pathLst>
              <a:path w="5524" h="1753">
                <a:moveTo>
                  <a:pt x="7673" y="3903"/>
                </a:moveTo>
                <a:cubicBezTo>
                  <a:pt x="7673" y="3828"/>
                  <a:pt x="7657" y="3803"/>
                  <a:pt x="7640" y="3770"/>
                </a:cubicBezTo>
                <a:cubicBezTo>
                  <a:pt x="7635" y="3759"/>
                  <a:pt x="7574" y="3695"/>
                  <a:pt x="7541" y="3737"/>
                </a:cubicBezTo>
                <a:cubicBezTo>
                  <a:pt x="7514" y="3770"/>
                  <a:pt x="7479" y="3855"/>
                  <a:pt x="7474" y="3903"/>
                </a:cubicBezTo>
                <a:cubicBezTo>
                  <a:pt x="7461" y="4027"/>
                  <a:pt x="7472" y="4195"/>
                  <a:pt x="7508" y="4266"/>
                </a:cubicBezTo>
                <a:cubicBezTo>
                  <a:pt x="7530" y="4308"/>
                  <a:pt x="7541" y="4347"/>
                  <a:pt x="7541" y="4399"/>
                </a:cubicBezTo>
                <a:cubicBezTo>
                  <a:pt x="7541" y="4451"/>
                  <a:pt x="7574" y="4425"/>
                  <a:pt x="7574" y="4498"/>
                </a:cubicBezTo>
                <a:cubicBezTo>
                  <a:pt x="7574" y="4542"/>
                  <a:pt x="7573" y="4570"/>
                  <a:pt x="7607" y="4597"/>
                </a:cubicBezTo>
                <a:cubicBezTo>
                  <a:pt x="7645" y="4627"/>
                  <a:pt x="7640" y="4626"/>
                  <a:pt x="7640" y="4696"/>
                </a:cubicBezTo>
                <a:cubicBezTo>
                  <a:pt x="7640" y="4757"/>
                  <a:pt x="7667" y="4775"/>
                  <a:pt x="7673" y="4829"/>
                </a:cubicBezTo>
                <a:cubicBezTo>
                  <a:pt x="7679" y="4884"/>
                  <a:pt x="7696" y="5032"/>
                  <a:pt x="7640" y="5060"/>
                </a:cubicBezTo>
                <a:cubicBezTo>
                  <a:pt x="7598" y="5081"/>
                  <a:pt x="7603" y="5105"/>
                  <a:pt x="7574" y="5126"/>
                </a:cubicBezTo>
                <a:cubicBezTo>
                  <a:pt x="7517" y="5168"/>
                  <a:pt x="7476" y="5192"/>
                  <a:pt x="7408" y="5192"/>
                </a:cubicBezTo>
                <a:cubicBezTo>
                  <a:pt x="7347" y="5192"/>
                  <a:pt x="7323" y="5200"/>
                  <a:pt x="7276" y="5159"/>
                </a:cubicBezTo>
                <a:cubicBezTo>
                  <a:pt x="7218" y="5108"/>
                  <a:pt x="7171" y="5141"/>
                  <a:pt x="7144" y="5060"/>
                </a:cubicBezTo>
                <a:cubicBezTo>
                  <a:pt x="7127" y="5010"/>
                  <a:pt x="7111" y="5032"/>
                  <a:pt x="7111" y="4961"/>
                </a:cubicBezTo>
                <a:cubicBezTo>
                  <a:pt x="7111" y="4928"/>
                  <a:pt x="7111" y="4917"/>
                  <a:pt x="7111" y="4895"/>
                </a:cubicBezTo>
              </a:path>
              <a:path w="5524" h="1753">
                <a:moveTo>
                  <a:pt x="8136" y="4333"/>
                </a:moveTo>
                <a:cubicBezTo>
                  <a:pt x="8131" y="4317"/>
                  <a:pt x="8068" y="4258"/>
                  <a:pt x="8037" y="4299"/>
                </a:cubicBezTo>
                <a:cubicBezTo>
                  <a:pt x="8023" y="4317"/>
                  <a:pt x="7986" y="4400"/>
                  <a:pt x="8004" y="4432"/>
                </a:cubicBezTo>
                <a:cubicBezTo>
                  <a:pt x="8031" y="4480"/>
                  <a:pt x="8047" y="4501"/>
                  <a:pt x="8070" y="4531"/>
                </a:cubicBezTo>
                <a:cubicBezTo>
                  <a:pt x="8109" y="4583"/>
                  <a:pt x="8176" y="4564"/>
                  <a:pt x="8235" y="4564"/>
                </a:cubicBezTo>
                <a:cubicBezTo>
                  <a:pt x="8276" y="4564"/>
                  <a:pt x="8296" y="4619"/>
                  <a:pt x="8301" y="4663"/>
                </a:cubicBezTo>
                <a:cubicBezTo>
                  <a:pt x="8306" y="4709"/>
                  <a:pt x="8209" y="4733"/>
                  <a:pt x="8169" y="4763"/>
                </a:cubicBezTo>
                <a:cubicBezTo>
                  <a:pt x="8149" y="4778"/>
                  <a:pt x="8032" y="4831"/>
                  <a:pt x="8004" y="4796"/>
                </a:cubicBezTo>
                <a:cubicBezTo>
                  <a:pt x="7986" y="4774"/>
                  <a:pt x="7919" y="4704"/>
                  <a:pt x="7904" y="4696"/>
                </a:cubicBezTo>
                <a:cubicBezTo>
                  <a:pt x="7893" y="4696"/>
                  <a:pt x="7882" y="4696"/>
                  <a:pt x="7871" y="4696"/>
                </a:cubicBezTo>
              </a:path>
              <a:path w="5524" h="1753">
                <a:moveTo>
                  <a:pt x="8367" y="4399"/>
                </a:moveTo>
                <a:cubicBezTo>
                  <a:pt x="8444" y="4399"/>
                  <a:pt x="8472" y="4415"/>
                  <a:pt x="8500" y="4498"/>
                </a:cubicBezTo>
                <a:cubicBezTo>
                  <a:pt x="8519" y="4555"/>
                  <a:pt x="8560" y="4552"/>
                  <a:pt x="8566" y="4597"/>
                </a:cubicBezTo>
                <a:cubicBezTo>
                  <a:pt x="8578" y="4693"/>
                  <a:pt x="8566" y="4642"/>
                  <a:pt x="8566" y="4564"/>
                </a:cubicBezTo>
                <a:cubicBezTo>
                  <a:pt x="8566" y="4487"/>
                  <a:pt x="8566" y="4454"/>
                  <a:pt x="8566" y="4399"/>
                </a:cubicBezTo>
              </a:path>
              <a:path w="5524" h="1753">
                <a:moveTo>
                  <a:pt x="8401" y="4068"/>
                </a:moveTo>
                <a:cubicBezTo>
                  <a:pt x="8445" y="4068"/>
                  <a:pt x="8467" y="4068"/>
                  <a:pt x="8500" y="4068"/>
                </a:cubicBezTo>
              </a:path>
              <a:path w="5524" h="1753">
                <a:moveTo>
                  <a:pt x="8864" y="4399"/>
                </a:moveTo>
                <a:cubicBezTo>
                  <a:pt x="8864" y="4498"/>
                  <a:pt x="8876" y="4607"/>
                  <a:pt x="8897" y="4663"/>
                </a:cubicBezTo>
                <a:cubicBezTo>
                  <a:pt x="8905" y="4685"/>
                  <a:pt x="8897" y="4849"/>
                  <a:pt x="8897" y="4763"/>
                </a:cubicBezTo>
                <a:cubicBezTo>
                  <a:pt x="8897" y="4676"/>
                  <a:pt x="8904" y="4633"/>
                  <a:pt x="8864" y="4564"/>
                </a:cubicBezTo>
                <a:cubicBezTo>
                  <a:pt x="8822" y="4492"/>
                  <a:pt x="8830" y="4447"/>
                  <a:pt x="8830" y="4366"/>
                </a:cubicBezTo>
                <a:cubicBezTo>
                  <a:pt x="8830" y="4355"/>
                  <a:pt x="8830" y="4344"/>
                  <a:pt x="8830" y="4333"/>
                </a:cubicBezTo>
                <a:cubicBezTo>
                  <a:pt x="8915" y="4333"/>
                  <a:pt x="8992" y="4317"/>
                  <a:pt x="9029" y="4366"/>
                </a:cubicBezTo>
                <a:cubicBezTo>
                  <a:pt x="9062" y="4410"/>
                  <a:pt x="9106" y="4422"/>
                  <a:pt x="9128" y="4465"/>
                </a:cubicBezTo>
                <a:cubicBezTo>
                  <a:pt x="9144" y="4497"/>
                  <a:pt x="9157" y="4594"/>
                  <a:pt x="9161" y="4630"/>
                </a:cubicBezTo>
                <a:cubicBezTo>
                  <a:pt x="9162" y="4641"/>
                  <a:pt x="9161" y="4751"/>
                  <a:pt x="9161" y="4663"/>
                </a:cubicBezTo>
              </a:path>
              <a:path w="5524" h="1753">
                <a:moveTo>
                  <a:pt x="9591" y="3903"/>
                </a:moveTo>
                <a:cubicBezTo>
                  <a:pt x="9553" y="3954"/>
                  <a:pt x="9544" y="3960"/>
                  <a:pt x="9525" y="4002"/>
                </a:cubicBezTo>
                <a:cubicBezTo>
                  <a:pt x="9489" y="4081"/>
                  <a:pt x="9488" y="4163"/>
                  <a:pt x="9459" y="4233"/>
                </a:cubicBezTo>
                <a:cubicBezTo>
                  <a:pt x="9435" y="4291"/>
                  <a:pt x="9426" y="4329"/>
                  <a:pt x="9426" y="4399"/>
                </a:cubicBezTo>
                <a:cubicBezTo>
                  <a:pt x="9426" y="4562"/>
                  <a:pt x="9424" y="4649"/>
                  <a:pt x="9492" y="4763"/>
                </a:cubicBezTo>
                <a:cubicBezTo>
                  <a:pt x="9507" y="4788"/>
                  <a:pt x="9555" y="4856"/>
                  <a:pt x="9558" y="4862"/>
                </a:cubicBezTo>
                <a:cubicBezTo>
                  <a:pt x="9586" y="4919"/>
                  <a:pt x="9578" y="4905"/>
                  <a:pt x="9591" y="4829"/>
                </a:cubicBezTo>
              </a:path>
              <a:path w="5524" h="1753">
                <a:moveTo>
                  <a:pt x="9591" y="4333"/>
                </a:moveTo>
                <a:cubicBezTo>
                  <a:pt x="9666" y="4363"/>
                  <a:pt x="9731" y="4470"/>
                  <a:pt x="9790" y="4498"/>
                </a:cubicBezTo>
                <a:cubicBezTo>
                  <a:pt x="9852" y="4527"/>
                  <a:pt x="9930" y="4558"/>
                  <a:pt x="9988" y="4597"/>
                </a:cubicBezTo>
                <a:cubicBezTo>
                  <a:pt x="10038" y="4630"/>
                  <a:pt x="10054" y="4675"/>
                  <a:pt x="10054" y="4630"/>
                </a:cubicBezTo>
              </a:path>
              <a:path w="5524" h="1753">
                <a:moveTo>
                  <a:pt x="9955" y="4299"/>
                </a:moveTo>
                <a:cubicBezTo>
                  <a:pt x="9955" y="4310"/>
                  <a:pt x="9955" y="4322"/>
                  <a:pt x="9955" y="4333"/>
                </a:cubicBezTo>
                <a:cubicBezTo>
                  <a:pt x="9905" y="4350"/>
                  <a:pt x="9922" y="4373"/>
                  <a:pt x="9922" y="4432"/>
                </a:cubicBezTo>
                <a:cubicBezTo>
                  <a:pt x="9922" y="4476"/>
                  <a:pt x="9922" y="4498"/>
                  <a:pt x="9922" y="4531"/>
                </a:cubicBezTo>
                <a:cubicBezTo>
                  <a:pt x="9892" y="4541"/>
                  <a:pt x="9870" y="4587"/>
                  <a:pt x="9856" y="4630"/>
                </a:cubicBezTo>
                <a:cubicBezTo>
                  <a:pt x="9837" y="4687"/>
                  <a:pt x="9884" y="4676"/>
                  <a:pt x="9823" y="4696"/>
                </a:cubicBezTo>
              </a:path>
              <a:path w="5524" h="1753">
                <a:moveTo>
                  <a:pt x="9889" y="4068"/>
                </a:moveTo>
                <a:cubicBezTo>
                  <a:pt x="9900" y="4068"/>
                  <a:pt x="9911" y="4068"/>
                  <a:pt x="9922" y="4068"/>
                </a:cubicBezTo>
                <a:cubicBezTo>
                  <a:pt x="9939" y="4018"/>
                  <a:pt x="9962" y="4035"/>
                  <a:pt x="10021" y="4035"/>
                </a:cubicBezTo>
                <a:cubicBezTo>
                  <a:pt x="10021" y="4079"/>
                  <a:pt x="10021" y="4123"/>
                  <a:pt x="10021" y="4167"/>
                </a:cubicBezTo>
                <a:cubicBezTo>
                  <a:pt x="10078" y="4167"/>
                  <a:pt x="10100" y="4174"/>
                  <a:pt x="10120" y="4233"/>
                </a:cubicBezTo>
                <a:cubicBezTo>
                  <a:pt x="10130" y="4262"/>
                  <a:pt x="10120" y="4451"/>
                  <a:pt x="10120" y="4366"/>
                </a:cubicBezTo>
              </a:path>
              <a:path w="5524" h="1753">
                <a:moveTo>
                  <a:pt x="10153" y="3836"/>
                </a:moveTo>
                <a:cubicBezTo>
                  <a:pt x="10191" y="3849"/>
                  <a:pt x="10239" y="3893"/>
                  <a:pt x="10286" y="3936"/>
                </a:cubicBezTo>
                <a:cubicBezTo>
                  <a:pt x="10332" y="3978"/>
                  <a:pt x="10388" y="4076"/>
                  <a:pt x="10418" y="4101"/>
                </a:cubicBezTo>
                <a:cubicBezTo>
                  <a:pt x="10516" y="4182"/>
                  <a:pt x="10544" y="4188"/>
                  <a:pt x="10583" y="4299"/>
                </a:cubicBezTo>
                <a:cubicBezTo>
                  <a:pt x="10620" y="4403"/>
                  <a:pt x="10616" y="4483"/>
                  <a:pt x="10616" y="4597"/>
                </a:cubicBezTo>
                <a:cubicBezTo>
                  <a:pt x="10616" y="4665"/>
                  <a:pt x="10648" y="4920"/>
                  <a:pt x="10583" y="4928"/>
                </a:cubicBezTo>
                <a:cubicBezTo>
                  <a:pt x="10550" y="4928"/>
                  <a:pt x="10539" y="4928"/>
                  <a:pt x="10517" y="4928"/>
                </a:cubicBezTo>
              </a:path>
              <a:path w="5524" h="1753">
                <a:moveTo>
                  <a:pt x="10716" y="4200"/>
                </a:moveTo>
                <a:cubicBezTo>
                  <a:pt x="10716" y="4211"/>
                  <a:pt x="10716" y="4222"/>
                  <a:pt x="10716" y="4233"/>
                </a:cubicBezTo>
                <a:cubicBezTo>
                  <a:pt x="10775" y="4248"/>
                  <a:pt x="10803" y="4287"/>
                  <a:pt x="10848" y="4333"/>
                </a:cubicBezTo>
                <a:cubicBezTo>
                  <a:pt x="10886" y="4371"/>
                  <a:pt x="10897" y="4388"/>
                  <a:pt x="10881" y="4432"/>
                </a:cubicBezTo>
                <a:cubicBezTo>
                  <a:pt x="10940" y="4447"/>
                  <a:pt x="10950" y="4479"/>
                  <a:pt x="10980" y="4531"/>
                </a:cubicBezTo>
                <a:cubicBezTo>
                  <a:pt x="11030" y="4619"/>
                  <a:pt x="11094" y="4670"/>
                  <a:pt x="11146" y="4763"/>
                </a:cubicBezTo>
                <a:cubicBezTo>
                  <a:pt x="11191" y="4843"/>
                  <a:pt x="11193" y="4806"/>
                  <a:pt x="11212" y="4862"/>
                </a:cubicBezTo>
                <a:cubicBezTo>
                  <a:pt x="11212" y="4818"/>
                  <a:pt x="11212" y="4773"/>
                  <a:pt x="11212" y="4729"/>
                </a:cubicBezTo>
              </a:path>
              <a:path w="5524" h="1753">
                <a:moveTo>
                  <a:pt x="10947" y="4366"/>
                </a:moveTo>
                <a:cubicBezTo>
                  <a:pt x="10947" y="4452"/>
                  <a:pt x="10927" y="4517"/>
                  <a:pt x="10914" y="4597"/>
                </a:cubicBezTo>
                <a:cubicBezTo>
                  <a:pt x="10898" y="4691"/>
                  <a:pt x="10914" y="4799"/>
                  <a:pt x="10914" y="4895"/>
                </a:cubicBezTo>
                <a:cubicBezTo>
                  <a:pt x="10914" y="4641"/>
                  <a:pt x="10914" y="4388"/>
                  <a:pt x="10914" y="4134"/>
                </a:cubicBezTo>
              </a:path>
              <a:path w="5524" h="1753">
                <a:moveTo>
                  <a:pt x="11179" y="3803"/>
                </a:moveTo>
                <a:cubicBezTo>
                  <a:pt x="11219" y="3783"/>
                  <a:pt x="11238" y="3757"/>
                  <a:pt x="11278" y="3737"/>
                </a:cubicBezTo>
                <a:cubicBezTo>
                  <a:pt x="11337" y="3757"/>
                  <a:pt x="11318" y="3823"/>
                  <a:pt x="11377" y="3870"/>
                </a:cubicBezTo>
                <a:cubicBezTo>
                  <a:pt x="11397" y="3886"/>
                  <a:pt x="11453" y="3931"/>
                  <a:pt x="11377" y="3969"/>
                </a:cubicBezTo>
                <a:cubicBezTo>
                  <a:pt x="11340" y="3988"/>
                  <a:pt x="11340" y="4049"/>
                  <a:pt x="11311" y="4068"/>
                </a:cubicBezTo>
                <a:cubicBezTo>
                  <a:pt x="11268" y="4097"/>
                  <a:pt x="11268" y="4149"/>
                  <a:pt x="11245" y="4167"/>
                </a:cubicBezTo>
                <a:cubicBezTo>
                  <a:pt x="11212" y="4167"/>
                  <a:pt x="11201" y="4167"/>
                  <a:pt x="11212" y="4200"/>
                </a:cubicBezTo>
                <a:cubicBezTo>
                  <a:pt x="11286" y="4228"/>
                  <a:pt x="11332" y="4233"/>
                  <a:pt x="11410" y="4233"/>
                </a:cubicBezTo>
                <a:cubicBezTo>
                  <a:pt x="11466" y="4233"/>
                  <a:pt x="11460" y="4247"/>
                  <a:pt x="11476" y="4200"/>
                </a:cubicBezTo>
              </a:path>
              <a:path w="5524" h="1753">
                <a:moveTo>
                  <a:pt x="11873" y="3440"/>
                </a:moveTo>
                <a:cubicBezTo>
                  <a:pt x="11873" y="3715"/>
                  <a:pt x="11832" y="4048"/>
                  <a:pt x="11906" y="4299"/>
                </a:cubicBezTo>
                <a:cubicBezTo>
                  <a:pt x="11930" y="4381"/>
                  <a:pt x="11894" y="4467"/>
                  <a:pt x="11873" y="4531"/>
                </a:cubicBezTo>
                <a:cubicBezTo>
                  <a:pt x="11854" y="4587"/>
                  <a:pt x="11905" y="4708"/>
                  <a:pt x="11873" y="4663"/>
                </a:cubicBezTo>
                <a:cubicBezTo>
                  <a:pt x="11837" y="4612"/>
                  <a:pt x="11818" y="4529"/>
                  <a:pt x="11807" y="4465"/>
                </a:cubicBezTo>
                <a:cubicBezTo>
                  <a:pt x="11794" y="4384"/>
                  <a:pt x="11758" y="4283"/>
                  <a:pt x="11675" y="4233"/>
                </a:cubicBezTo>
                <a:cubicBezTo>
                  <a:pt x="11623" y="4202"/>
                  <a:pt x="11589" y="4249"/>
                  <a:pt x="11576" y="4266"/>
                </a:cubicBezTo>
                <a:cubicBezTo>
                  <a:pt x="11536" y="4318"/>
                  <a:pt x="11543" y="4381"/>
                  <a:pt x="11509" y="4432"/>
                </a:cubicBezTo>
                <a:cubicBezTo>
                  <a:pt x="11470" y="4490"/>
                  <a:pt x="11476" y="4520"/>
                  <a:pt x="11476" y="4597"/>
                </a:cubicBezTo>
                <a:cubicBezTo>
                  <a:pt x="11476" y="4630"/>
                  <a:pt x="11476" y="4641"/>
                  <a:pt x="11476" y="4663"/>
                </a:cubicBezTo>
                <a:cubicBezTo>
                  <a:pt x="11543" y="4663"/>
                  <a:pt x="11554" y="4661"/>
                  <a:pt x="11609" y="4630"/>
                </a:cubicBezTo>
                <a:cubicBezTo>
                  <a:pt x="11644" y="4610"/>
                  <a:pt x="11723" y="4567"/>
                  <a:pt x="11741" y="4531"/>
                </a:cubicBezTo>
                <a:cubicBezTo>
                  <a:pt x="11741" y="4498"/>
                  <a:pt x="11741" y="4487"/>
                  <a:pt x="11774" y="4498"/>
                </a:cubicBezTo>
              </a:path>
              <a:path w="5524" h="1753">
                <a:moveTo>
                  <a:pt x="11972" y="4167"/>
                </a:moveTo>
                <a:cubicBezTo>
                  <a:pt x="12058" y="4188"/>
                  <a:pt x="12133" y="4237"/>
                  <a:pt x="12204" y="4299"/>
                </a:cubicBezTo>
                <a:cubicBezTo>
                  <a:pt x="12241" y="4331"/>
                  <a:pt x="12326" y="4379"/>
                  <a:pt x="12336" y="4399"/>
                </a:cubicBezTo>
                <a:cubicBezTo>
                  <a:pt x="12358" y="4443"/>
                  <a:pt x="12423" y="4462"/>
                  <a:pt x="12468" y="4498"/>
                </a:cubicBezTo>
                <a:cubicBezTo>
                  <a:pt x="12525" y="4543"/>
                  <a:pt x="12578" y="4585"/>
                  <a:pt x="12634" y="4630"/>
                </a:cubicBezTo>
                <a:cubicBezTo>
                  <a:pt x="12634" y="4586"/>
                  <a:pt x="12634" y="4542"/>
                  <a:pt x="12634" y="4498"/>
                </a:cubicBezTo>
              </a:path>
              <a:path w="5524" h="1753">
                <a:moveTo>
                  <a:pt x="12568" y="4233"/>
                </a:moveTo>
                <a:cubicBezTo>
                  <a:pt x="12535" y="4233"/>
                  <a:pt x="12524" y="4233"/>
                  <a:pt x="12502" y="4233"/>
                </a:cubicBezTo>
                <a:cubicBezTo>
                  <a:pt x="12502" y="4282"/>
                  <a:pt x="12492" y="4330"/>
                  <a:pt x="12468" y="4366"/>
                </a:cubicBezTo>
                <a:cubicBezTo>
                  <a:pt x="12415" y="4446"/>
                  <a:pt x="12291" y="4542"/>
                  <a:pt x="12204" y="4564"/>
                </a:cubicBezTo>
                <a:cubicBezTo>
                  <a:pt x="12073" y="4597"/>
                  <a:pt x="11941" y="4592"/>
                  <a:pt x="11807" y="4630"/>
                </a:cubicBezTo>
                <a:cubicBezTo>
                  <a:pt x="11774" y="4630"/>
                  <a:pt x="11763" y="4630"/>
                  <a:pt x="11741" y="4630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69560" y="1540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372960" y="1138320"/>
          <a:ext cx="27511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1138320"/>
                    <a:ext cx="27511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4"/>
          <p:cNvGraphicFramePr/>
          <p:nvPr/>
        </p:nvGraphicFramePr>
        <p:xfrm>
          <a:off x="4191120" y="2819520"/>
          <a:ext cx="2219040" cy="60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819520"/>
                    <a:ext cx="221904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5"/>
          <p:cNvGraphicFramePr/>
          <p:nvPr/>
        </p:nvGraphicFramePr>
        <p:xfrm>
          <a:off x="4114800" y="3962520"/>
          <a:ext cx="2392200" cy="60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3962520"/>
                    <a:ext cx="23922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6"/>
          <p:cNvGraphicFramePr/>
          <p:nvPr/>
        </p:nvGraphicFramePr>
        <p:xfrm>
          <a:off x="396720" y="2620800"/>
          <a:ext cx="2803680" cy="99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720" y="2620800"/>
                    <a:ext cx="2803680" cy="9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7"/>
          <p:cNvGraphicFramePr/>
          <p:nvPr/>
        </p:nvGraphicFramePr>
        <p:xfrm>
          <a:off x="857160" y="4165560"/>
          <a:ext cx="1809720" cy="95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7160" y="4165560"/>
                    <a:ext cx="180972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8"/>
          <p:cNvGraphicFramePr/>
          <p:nvPr/>
        </p:nvGraphicFramePr>
        <p:xfrm>
          <a:off x="853920" y="5497560"/>
          <a:ext cx="1812960" cy="133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53920" y="5497560"/>
                    <a:ext cx="18129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9"/>
          <p:cNvGraphicFramePr/>
          <p:nvPr/>
        </p:nvGraphicFramePr>
        <p:xfrm>
          <a:off x="663480" y="7112160"/>
          <a:ext cx="2308320" cy="133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3480" y="7112160"/>
                    <a:ext cx="2308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Ink 11"/>
          <p:cNvSpPr/>
          <p:nvPr/>
        </p:nvSpPr>
        <p:spPr>
          <a:xfrm>
            <a:off x="1774800" y="3214800"/>
            <a:ext cx="4559400" cy="1465200"/>
          </a:xfrm>
          <a:custGeom>
            <a:avLst/>
            <a:gdLst/>
            <a:ahLst/>
            <a:rect l="l" t="t" r="r" b="b"/>
            <a:pathLst>
              <a:path w="12668" h="4069">
                <a:moveTo>
                  <a:pt x="5523" y="9426"/>
                </a:moveTo>
                <a:cubicBezTo>
                  <a:pt x="5774" y="9426"/>
                  <a:pt x="6042" y="9455"/>
                  <a:pt x="6284" y="9393"/>
                </a:cubicBezTo>
                <a:cubicBezTo>
                  <a:pt x="6362" y="9373"/>
                  <a:pt x="6434" y="9364"/>
                  <a:pt x="6515" y="9360"/>
                </a:cubicBezTo>
                <a:cubicBezTo>
                  <a:pt x="6622" y="9355"/>
                  <a:pt x="6713" y="9310"/>
                  <a:pt x="6813" y="9293"/>
                </a:cubicBezTo>
                <a:cubicBezTo>
                  <a:pt x="6896" y="9279"/>
                  <a:pt x="6998" y="9270"/>
                  <a:pt x="7078" y="9260"/>
                </a:cubicBezTo>
                <a:cubicBezTo>
                  <a:pt x="7203" y="9244"/>
                  <a:pt x="7311" y="9227"/>
                  <a:pt x="7441" y="9227"/>
                </a:cubicBezTo>
                <a:cubicBezTo>
                  <a:pt x="7539" y="9227"/>
                  <a:pt x="7627" y="9205"/>
                  <a:pt x="7706" y="9194"/>
                </a:cubicBezTo>
                <a:cubicBezTo>
                  <a:pt x="7783" y="9183"/>
                  <a:pt x="7874" y="9171"/>
                  <a:pt x="7938" y="9161"/>
                </a:cubicBezTo>
                <a:cubicBezTo>
                  <a:pt x="8147" y="9128"/>
                  <a:pt x="8386" y="9161"/>
                  <a:pt x="8599" y="9161"/>
                </a:cubicBezTo>
              </a:path>
              <a:path w="12668" h="4069">
                <a:moveTo>
                  <a:pt x="11708" y="12568"/>
                </a:moveTo>
                <a:cubicBezTo>
                  <a:pt x="11760" y="12557"/>
                  <a:pt x="11784" y="12538"/>
                  <a:pt x="11873" y="12535"/>
                </a:cubicBezTo>
                <a:cubicBezTo>
                  <a:pt x="12008" y="12530"/>
                  <a:pt x="12132" y="12506"/>
                  <a:pt x="12270" y="12502"/>
                </a:cubicBezTo>
                <a:cubicBezTo>
                  <a:pt x="12368" y="12499"/>
                  <a:pt x="12437" y="12471"/>
                  <a:pt x="12535" y="12468"/>
                </a:cubicBezTo>
                <a:cubicBezTo>
                  <a:pt x="13705" y="12427"/>
                  <a:pt x="14997" y="12376"/>
                  <a:pt x="16140" y="12502"/>
                </a:cubicBezTo>
                <a:cubicBezTo>
                  <a:pt x="16534" y="12545"/>
                  <a:pt x="16992" y="12510"/>
                  <a:pt x="17363" y="12468"/>
                </a:cubicBezTo>
                <a:cubicBezTo>
                  <a:pt x="17438" y="12459"/>
                  <a:pt x="17519" y="12468"/>
                  <a:pt x="17595" y="12468"/>
                </a:cubicBezTo>
              </a:path>
              <a:path w="12668" h="4069">
                <a:moveTo>
                  <a:pt x="11542" y="11972"/>
                </a:moveTo>
                <a:cubicBezTo>
                  <a:pt x="11414" y="11981"/>
                  <a:pt x="11300" y="12008"/>
                  <a:pt x="11179" y="12039"/>
                </a:cubicBezTo>
                <a:cubicBezTo>
                  <a:pt x="11091" y="12062"/>
                  <a:pt x="11004" y="12057"/>
                  <a:pt x="10914" y="12072"/>
                </a:cubicBezTo>
                <a:cubicBezTo>
                  <a:pt x="10829" y="12086"/>
                  <a:pt x="10736" y="12116"/>
                  <a:pt x="10649" y="12138"/>
                </a:cubicBezTo>
                <a:cubicBezTo>
                  <a:pt x="10549" y="12163"/>
                  <a:pt x="10451" y="12153"/>
                  <a:pt x="10352" y="12171"/>
                </a:cubicBezTo>
                <a:cubicBezTo>
                  <a:pt x="10275" y="12185"/>
                  <a:pt x="10196" y="12227"/>
                  <a:pt x="10120" y="12237"/>
                </a:cubicBezTo>
                <a:cubicBezTo>
                  <a:pt x="10039" y="12248"/>
                  <a:pt x="9969" y="12262"/>
                  <a:pt x="9889" y="12270"/>
                </a:cubicBezTo>
                <a:cubicBezTo>
                  <a:pt x="9808" y="12278"/>
                  <a:pt x="9767" y="12284"/>
                  <a:pt x="9690" y="12303"/>
                </a:cubicBezTo>
                <a:cubicBezTo>
                  <a:pt x="9625" y="12319"/>
                  <a:pt x="9559" y="12327"/>
                  <a:pt x="9492" y="12336"/>
                </a:cubicBezTo>
                <a:cubicBezTo>
                  <a:pt x="9403" y="12347"/>
                  <a:pt x="9315" y="12351"/>
                  <a:pt x="9227" y="12369"/>
                </a:cubicBezTo>
                <a:cubicBezTo>
                  <a:pt x="9125" y="12391"/>
                  <a:pt x="9036" y="12418"/>
                  <a:pt x="8930" y="12435"/>
                </a:cubicBezTo>
                <a:cubicBezTo>
                  <a:pt x="8834" y="12450"/>
                  <a:pt x="8727" y="12448"/>
                  <a:pt x="8632" y="12468"/>
                </a:cubicBezTo>
                <a:cubicBezTo>
                  <a:pt x="8524" y="12490"/>
                  <a:pt x="8435" y="12524"/>
                  <a:pt x="8334" y="12535"/>
                </a:cubicBezTo>
                <a:cubicBezTo>
                  <a:pt x="8256" y="12544"/>
                  <a:pt x="8232" y="12550"/>
                  <a:pt x="8169" y="12568"/>
                </a:cubicBezTo>
                <a:cubicBezTo>
                  <a:pt x="8119" y="12582"/>
                  <a:pt x="8092" y="12593"/>
                  <a:pt x="8037" y="12601"/>
                </a:cubicBezTo>
                <a:cubicBezTo>
                  <a:pt x="7993" y="12607"/>
                  <a:pt x="7982" y="12629"/>
                  <a:pt x="7938" y="12634"/>
                </a:cubicBezTo>
                <a:cubicBezTo>
                  <a:pt x="7867" y="12643"/>
                  <a:pt x="7833" y="12658"/>
                  <a:pt x="7772" y="12667"/>
                </a:cubicBezTo>
                <a:cubicBezTo>
                  <a:pt x="7710" y="12677"/>
                  <a:pt x="7555" y="12698"/>
                  <a:pt x="7541" y="12700"/>
                </a:cubicBezTo>
                <a:cubicBezTo>
                  <a:pt x="7443" y="12712"/>
                  <a:pt x="7361" y="12712"/>
                  <a:pt x="7276" y="12733"/>
                </a:cubicBezTo>
                <a:cubicBezTo>
                  <a:pt x="7297" y="12701"/>
                  <a:pt x="7368" y="12615"/>
                  <a:pt x="7375" y="12601"/>
                </a:cubicBezTo>
                <a:cubicBezTo>
                  <a:pt x="7412" y="12530"/>
                  <a:pt x="7431" y="12483"/>
                  <a:pt x="7474" y="12435"/>
                </a:cubicBezTo>
                <a:cubicBezTo>
                  <a:pt x="7514" y="12390"/>
                  <a:pt x="7551" y="12355"/>
                  <a:pt x="7574" y="12303"/>
                </a:cubicBezTo>
                <a:cubicBezTo>
                  <a:pt x="7574" y="12292"/>
                  <a:pt x="7574" y="12281"/>
                  <a:pt x="7574" y="12270"/>
                </a:cubicBezTo>
                <a:cubicBezTo>
                  <a:pt x="7547" y="12329"/>
                  <a:pt x="7557" y="12371"/>
                  <a:pt x="7508" y="12435"/>
                </a:cubicBezTo>
                <a:cubicBezTo>
                  <a:pt x="7497" y="12449"/>
                  <a:pt x="7414" y="12523"/>
                  <a:pt x="7408" y="12535"/>
                </a:cubicBezTo>
                <a:cubicBezTo>
                  <a:pt x="7383" y="12585"/>
                  <a:pt x="7378" y="12612"/>
                  <a:pt x="7342" y="12667"/>
                </a:cubicBezTo>
                <a:cubicBezTo>
                  <a:pt x="7317" y="12704"/>
                  <a:pt x="7334" y="12719"/>
                  <a:pt x="7309" y="12766"/>
                </a:cubicBezTo>
                <a:cubicBezTo>
                  <a:pt x="7307" y="12770"/>
                  <a:pt x="7238" y="12818"/>
                  <a:pt x="7276" y="12865"/>
                </a:cubicBezTo>
                <a:cubicBezTo>
                  <a:pt x="7319" y="12918"/>
                  <a:pt x="7340" y="12888"/>
                  <a:pt x="7408" y="12898"/>
                </a:cubicBezTo>
                <a:cubicBezTo>
                  <a:pt x="7561" y="12921"/>
                  <a:pt x="7719" y="12938"/>
                  <a:pt x="7871" y="12965"/>
                </a:cubicBezTo>
                <a:cubicBezTo>
                  <a:pt x="7906" y="12971"/>
                  <a:pt x="7979" y="13006"/>
                  <a:pt x="8004" y="12998"/>
                </a:cubicBezTo>
                <a:cubicBezTo>
                  <a:pt x="8093" y="12970"/>
                  <a:pt x="8204" y="12780"/>
                  <a:pt x="8268" y="12700"/>
                </a:cubicBezTo>
              </a:path>
              <a:path w="12668" h="4069">
                <a:moveTo>
                  <a:pt x="11807" y="8930"/>
                </a:moveTo>
                <a:cubicBezTo>
                  <a:pt x="11746" y="8962"/>
                  <a:pt x="11769" y="8955"/>
                  <a:pt x="11708" y="8996"/>
                </a:cubicBezTo>
                <a:cubicBezTo>
                  <a:pt x="11591" y="9074"/>
                  <a:pt x="11435" y="9177"/>
                  <a:pt x="11311" y="9227"/>
                </a:cubicBezTo>
                <a:cubicBezTo>
                  <a:pt x="11097" y="9314"/>
                  <a:pt x="10858" y="9355"/>
                  <a:pt x="10649" y="9459"/>
                </a:cubicBezTo>
                <a:cubicBezTo>
                  <a:pt x="10432" y="9567"/>
                  <a:pt x="10198" y="9667"/>
                  <a:pt x="9988" y="9790"/>
                </a:cubicBezTo>
                <a:cubicBezTo>
                  <a:pt x="9796" y="9902"/>
                  <a:pt x="9625" y="9966"/>
                  <a:pt x="9426" y="10054"/>
                </a:cubicBezTo>
                <a:cubicBezTo>
                  <a:pt x="9193" y="10158"/>
                  <a:pt x="8957" y="10265"/>
                  <a:pt x="8731" y="10385"/>
                </a:cubicBezTo>
                <a:cubicBezTo>
                  <a:pt x="8556" y="10478"/>
                  <a:pt x="8380" y="10561"/>
                  <a:pt x="8202" y="10649"/>
                </a:cubicBezTo>
                <a:cubicBezTo>
                  <a:pt x="8079" y="10710"/>
                  <a:pt x="7950" y="10774"/>
                  <a:pt x="7838" y="10848"/>
                </a:cubicBezTo>
                <a:cubicBezTo>
                  <a:pt x="7734" y="10916"/>
                  <a:pt x="7594" y="11002"/>
                  <a:pt x="7474" y="11079"/>
                </a:cubicBezTo>
                <a:cubicBezTo>
                  <a:pt x="7330" y="11171"/>
                  <a:pt x="7189" y="11279"/>
                  <a:pt x="7045" y="11377"/>
                </a:cubicBezTo>
                <a:cubicBezTo>
                  <a:pt x="6926" y="11458"/>
                  <a:pt x="6809" y="11538"/>
                  <a:pt x="6681" y="11609"/>
                </a:cubicBezTo>
                <a:cubicBezTo>
                  <a:pt x="6596" y="11656"/>
                  <a:pt x="6517" y="11696"/>
                  <a:pt x="6449" y="11741"/>
                </a:cubicBezTo>
                <a:cubicBezTo>
                  <a:pt x="6382" y="11785"/>
                  <a:pt x="6337" y="11861"/>
                  <a:pt x="6251" y="11906"/>
                </a:cubicBezTo>
                <a:cubicBezTo>
                  <a:pt x="6193" y="11936"/>
                  <a:pt x="6137" y="11947"/>
                  <a:pt x="6085" y="11972"/>
                </a:cubicBezTo>
                <a:cubicBezTo>
                  <a:pt x="6029" y="11999"/>
                  <a:pt x="5980" y="12022"/>
                  <a:pt x="5920" y="12039"/>
                </a:cubicBezTo>
                <a:cubicBezTo>
                  <a:pt x="5857" y="12057"/>
                  <a:pt x="5783" y="12053"/>
                  <a:pt x="5722" y="12072"/>
                </a:cubicBezTo>
                <a:cubicBezTo>
                  <a:pt x="5635" y="12099"/>
                  <a:pt x="5573" y="12119"/>
                  <a:pt x="5490" y="12138"/>
                </a:cubicBezTo>
                <a:cubicBezTo>
                  <a:pt x="5415" y="12155"/>
                  <a:pt x="5371" y="12161"/>
                  <a:pt x="5325" y="12171"/>
                </a:cubicBezTo>
                <a:cubicBezTo>
                  <a:pt x="5258" y="12186"/>
                  <a:pt x="5235" y="12195"/>
                  <a:pt x="5192" y="12204"/>
                </a:cubicBezTo>
                <a:cubicBezTo>
                  <a:pt x="5093" y="12225"/>
                  <a:pt x="5049" y="12231"/>
                  <a:pt x="4961" y="12270"/>
                </a:cubicBezTo>
                <a:cubicBezTo>
                  <a:pt x="4987" y="12189"/>
                  <a:pt x="4980" y="12073"/>
                  <a:pt x="5027" y="12005"/>
                </a:cubicBezTo>
                <a:cubicBezTo>
                  <a:pt x="5050" y="11971"/>
                  <a:pt x="5127" y="11909"/>
                  <a:pt x="5159" y="11873"/>
                </a:cubicBezTo>
                <a:cubicBezTo>
                  <a:pt x="5176" y="11854"/>
                  <a:pt x="5209" y="11826"/>
                  <a:pt x="5226" y="11807"/>
                </a:cubicBezTo>
                <a:cubicBezTo>
                  <a:pt x="5202" y="11839"/>
                  <a:pt x="5166" y="11888"/>
                  <a:pt x="5126" y="11939"/>
                </a:cubicBezTo>
                <a:cubicBezTo>
                  <a:pt x="5079" y="11999"/>
                  <a:pt x="4949" y="12117"/>
                  <a:pt x="4928" y="12171"/>
                </a:cubicBezTo>
                <a:cubicBezTo>
                  <a:pt x="4901" y="12239"/>
                  <a:pt x="4932" y="12345"/>
                  <a:pt x="4961" y="12369"/>
                </a:cubicBezTo>
                <a:cubicBezTo>
                  <a:pt x="5023" y="12419"/>
                  <a:pt x="5063" y="12372"/>
                  <a:pt x="5126" y="12402"/>
                </a:cubicBezTo>
                <a:cubicBezTo>
                  <a:pt x="5170" y="12423"/>
                  <a:pt x="5179" y="12453"/>
                  <a:pt x="5226" y="12468"/>
                </a:cubicBezTo>
                <a:cubicBezTo>
                  <a:pt x="5237" y="12468"/>
                  <a:pt x="5248" y="12468"/>
                  <a:pt x="5259" y="12468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Ink 12"/>
          <p:cNvSpPr/>
          <p:nvPr/>
        </p:nvSpPr>
        <p:spPr>
          <a:xfrm>
            <a:off x="1844640" y="1833480"/>
            <a:ext cx="1239840" cy="12960"/>
          </a:xfrm>
          <a:custGeom>
            <a:avLst/>
            <a:gdLst/>
            <a:ahLst/>
            <a:rect l="l" t="t" r="r" b="b"/>
            <a:pathLst>
              <a:path w="3441" h="34">
                <a:moveTo>
                  <a:pt x="5126" y="5126"/>
                </a:moveTo>
                <a:cubicBezTo>
                  <a:pt x="6147" y="5126"/>
                  <a:pt x="7610" y="5370"/>
                  <a:pt x="8533" y="5093"/>
                </a:cubicBezTo>
                <a:cubicBezTo>
                  <a:pt x="8544" y="5093"/>
                  <a:pt x="8555" y="5093"/>
                  <a:pt x="8566" y="5093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0"/>
          <p:cNvSpPr/>
          <p:nvPr/>
        </p:nvSpPr>
        <p:spPr>
          <a:xfrm>
            <a:off x="4915080" y="3352680"/>
            <a:ext cx="1771560" cy="355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69560" y="1540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289080" y="966960"/>
          <a:ext cx="29113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966960"/>
                    <a:ext cx="2911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9" name="Group 6"/>
          <p:cNvGrpSpPr/>
          <p:nvPr/>
        </p:nvGrpSpPr>
        <p:grpSpPr>
          <a:xfrm>
            <a:off x="2914560" y="304920"/>
            <a:ext cx="3714840" cy="1243800"/>
            <a:chOff x="2914560" y="304920"/>
            <a:chExt cx="3714840" cy="1243800"/>
          </a:xfrm>
        </p:grpSpPr>
        <p:sp>
          <p:nvSpPr>
            <p:cNvPr id="200" name="Rectangle 5"/>
            <p:cNvSpPr/>
            <p:nvPr/>
          </p:nvSpPr>
          <p:spPr>
            <a:xfrm>
              <a:off x="2914560" y="304920"/>
              <a:ext cx="3429000" cy="1218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4"/>
            <p:cNvSpPr/>
            <p:nvPr/>
          </p:nvSpPr>
          <p:spPr>
            <a:xfrm>
              <a:off x="2959920" y="357480"/>
              <a:ext cx="3669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technique is a little different for definite integral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2" name="Object 7"/>
          <p:cNvGraphicFramePr/>
          <p:nvPr/>
        </p:nvGraphicFramePr>
        <p:xfrm>
          <a:off x="3029040" y="2133720"/>
          <a:ext cx="2609640" cy="60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9040" y="2133720"/>
                    <a:ext cx="260964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8"/>
          <p:cNvGraphicFramePr/>
          <p:nvPr/>
        </p:nvGraphicFramePr>
        <p:xfrm>
          <a:off x="2514600" y="2971800"/>
          <a:ext cx="264780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971800"/>
                    <a:ext cx="26478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9"/>
          <p:cNvGraphicFramePr/>
          <p:nvPr/>
        </p:nvGraphicFramePr>
        <p:xfrm>
          <a:off x="2362320" y="3962520"/>
          <a:ext cx="259236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3962520"/>
                    <a:ext cx="2592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0"/>
          <p:cNvGraphicFramePr/>
          <p:nvPr/>
        </p:nvGraphicFramePr>
        <p:xfrm>
          <a:off x="2286000" y="4876920"/>
          <a:ext cx="2725560" cy="146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4876920"/>
                    <a:ext cx="272556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1"/>
          <p:cNvGraphicFramePr/>
          <p:nvPr/>
        </p:nvGraphicFramePr>
        <p:xfrm>
          <a:off x="743040" y="2743200"/>
          <a:ext cx="1390680" cy="112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040" y="2743200"/>
                    <a:ext cx="13906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AutoShape 12"/>
          <p:cNvSpPr/>
          <p:nvPr/>
        </p:nvSpPr>
        <p:spPr>
          <a:xfrm>
            <a:off x="4915080" y="4165560"/>
            <a:ext cx="228600" cy="2235240"/>
          </a:xfrm>
          <a:custGeom>
            <a:avLst/>
            <a:gdLst>
              <a:gd name="textAreaLeft" fmla="*/ 0 w 228600"/>
              <a:gd name="textAreaRight" fmla="*/ 82440 w 228600"/>
              <a:gd name="textAreaTop" fmla="*/ 32760 h 2235240"/>
              <a:gd name="textAreaBottom" fmla="*/ 220248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6"/>
                  <a:pt x="10800" y="1012"/>
                </a:cubicBezTo>
                <a:lnTo>
                  <a:pt x="10800" y="9788"/>
                </a:lnTo>
                <a:cubicBezTo>
                  <a:pt x="10800" y="10294"/>
                  <a:pt x="16200" y="10800"/>
                  <a:pt x="21600" y="10800"/>
                </a:cubicBezTo>
                <a:cubicBezTo>
                  <a:pt x="16200" y="10800"/>
                  <a:pt x="10800" y="11306"/>
                  <a:pt x="10800" y="11812"/>
                </a:cubicBezTo>
                <a:lnTo>
                  <a:pt x="10800" y="20588"/>
                </a:lnTo>
                <a:cubicBezTo>
                  <a:pt x="10800" y="2109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5257800" y="3556080"/>
            <a:ext cx="1600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 can find new limits, and then we don’t have to substitute 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2"/>
          <p:cNvGrpSpPr/>
          <p:nvPr/>
        </p:nvGrpSpPr>
        <p:grpSpPr>
          <a:xfrm>
            <a:off x="1028880" y="2235240"/>
            <a:ext cx="1462320" cy="609120"/>
            <a:chOff x="1028880" y="2235240"/>
            <a:chExt cx="1462320" cy="609120"/>
          </a:xfrm>
        </p:grpSpPr>
        <p:sp>
          <p:nvSpPr>
            <p:cNvPr id="215" name="Line 14"/>
            <p:cNvSpPr/>
            <p:nvPr/>
          </p:nvSpPr>
          <p:spPr>
            <a:xfrm flipV="1">
              <a:off x="1028880" y="2539800"/>
              <a:ext cx="22860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1321560" y="223524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new lim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3"/>
          <p:cNvGrpSpPr/>
          <p:nvPr/>
        </p:nvGrpSpPr>
        <p:grpSpPr>
          <a:xfrm>
            <a:off x="1028880" y="3759120"/>
            <a:ext cx="1405080" cy="398880"/>
            <a:chOff x="1028880" y="3759120"/>
            <a:chExt cx="1405080" cy="398880"/>
          </a:xfrm>
        </p:grpSpPr>
        <p:sp>
          <p:nvSpPr>
            <p:cNvPr id="218" name="Line 15"/>
            <p:cNvSpPr/>
            <p:nvPr/>
          </p:nvSpPr>
          <p:spPr>
            <a:xfrm>
              <a:off x="1028880" y="3759120"/>
              <a:ext cx="22860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7"/>
            <p:cNvSpPr/>
            <p:nvPr/>
          </p:nvSpPr>
          <p:spPr>
            <a:xfrm>
              <a:off x="1264320" y="375912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new lim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0" name="Object 18"/>
          <p:cNvGraphicFramePr/>
          <p:nvPr/>
        </p:nvGraphicFramePr>
        <p:xfrm>
          <a:off x="873000" y="4414680"/>
          <a:ext cx="730440" cy="1643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1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73000" y="4414680"/>
                    <a:ext cx="730440" cy="16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19"/>
          <p:cNvGraphicFramePr/>
          <p:nvPr/>
        </p:nvGraphicFramePr>
        <p:xfrm>
          <a:off x="1028880" y="6502320"/>
          <a:ext cx="647640" cy="1339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3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28880" y="6502320"/>
                    <a:ext cx="64764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21"/>
          <p:cNvSpPr/>
          <p:nvPr/>
        </p:nvSpPr>
        <p:spPr>
          <a:xfrm>
            <a:off x="2171880" y="762012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 could have substituted back and used the original lim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24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6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7:04:33Z</dcterms:created>
  <dc:creator>Gregory Kelly</dc:creator>
  <dc:description/>
  <dc:language>en-US</dc:language>
  <cp:lastModifiedBy>sraja</cp:lastModifiedBy>
  <dcterms:modified xsi:type="dcterms:W3CDTF">2011-03-03T19:05:51Z</dcterms:modified>
  <cp:revision>27</cp:revision>
  <dc:subject>Integration by Substitution &amp; Separable Differential Equations</dc:subject>
  <dc:title>Calculus 6.2</dc:title>
</cp:coreProperties>
</file>